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306-2EDD-46CD-AB88-9D33FFCB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281-4147-4CC6-B179-1180119D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437-4047-48B4-A238-5D736E36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766-408D-4F17-948E-957BE129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D65C-4B37-495F-9C0A-95CA0E4E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B438-BE60-4173-99CF-C5D28CBE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0515-CA2F-437D-865E-C2588456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F080-5E4D-4D4B-9948-63A46399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40A9-91DA-423D-BD28-679CD237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22F6-E1B3-4CDA-877F-684C868C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F375-8036-45DD-9ED5-5F6CCEA9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DC1-ED67-4B83-B54F-34EAA936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5B17-8D88-409C-BD1B-0FFBD8CF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B4B6-D3B7-44D2-A78B-70FFE74D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3445-ACE4-4263-96F7-9BDCBC17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853C-6617-4CAD-BEBC-2E796A2E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EC88-794C-4C98-AECD-33DD6417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26E-24D3-40E9-87E3-8959366E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A8A-2781-4DC2-9B88-C32DECD7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137-F036-4141-87A0-65AC9C0A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5279-36B6-4928-BEC4-E9B80245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A935-7205-4937-9F50-212FC873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1E8-982C-4B7F-90D9-6D4DE7CB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4E9-6A58-49C2-98A6-E458337F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692A-1323-414B-A424-8608978AB4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7141-FF9A-42BE-A679-B491999CB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hyperlink" Target="http://www.ukm.my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Linking Course Outcomes to Programme Outcomes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3200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Handwriting"/>
              </a:rPr>
              <a:t>Prof. Ir. Dr. Wan Hamidon Wan Badaruzza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une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095880"/>
            <a:ext cx="681120" cy="83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finition of Term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9160" y="1219320"/>
            <a:ext cx="90676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AMME EDUCATIONAL OBJECTIVES (PEO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Arial"/>
              </a:rPr>
              <a:t>PEO are broad goals describing expected achievements o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graduates in their career and professional life after gradu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2000" y="5105520"/>
            <a:ext cx="8610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 must be responsive to the expressed interest of various groups of programme stakeholders and linked to 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finition of Term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066680"/>
            <a:ext cx="83822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AMME OUTCOMES (PO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r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narrower programme level stateme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that describe what students are expected to know and be able to perform or attai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by the time of graduation from the program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64832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 must be linked to PEO, i.e must directly address the PEO and must encompass certain specified outcomes (Outcomes (a) to (k) of EAC manu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121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-403704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-3579840"/>
            <a:ext cx="9144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 Outcomes and Links to Programme Educational 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43800" y="6254640"/>
            <a:ext cx="68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6553080"/>
            <a:ext cx="68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29600" y="5834160"/>
            <a:ext cx="68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380880"/>
            <a:ext cx="9144000" cy="6450120"/>
            <a:chOff x="0" y="380880"/>
            <a:chExt cx="9144000" cy="6450120"/>
          </a:xfrm>
        </p:grpSpPr>
        <p:sp>
          <p:nvSpPr>
            <p:cNvPr id="128" name=""/>
            <p:cNvSpPr/>
            <p:nvPr/>
          </p:nvSpPr>
          <p:spPr>
            <a:xfrm>
              <a:off x="246240" y="380880"/>
              <a:ext cx="6886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57200"/>
              <a:ext cx="46483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chievement of P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6960" y="501480"/>
              <a:ext cx="3544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321080" y="431640"/>
              <a:ext cx="4703400" cy="417600"/>
              <a:chOff x="4321080" y="431640"/>
              <a:chExt cx="4703400" cy="41760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0880" y="439200"/>
                <a:ext cx="466308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21080" y="431640"/>
                <a:ext cx="4703400" cy="417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240" y="857160"/>
              <a:ext cx="739440" cy="487440"/>
              <a:chOff x="3240" y="857160"/>
              <a:chExt cx="739440" cy="487440"/>
            </a:xfrm>
          </p:grpSpPr>
          <p:sp>
            <p:nvSpPr>
              <p:cNvPr id="135" name=""/>
              <p:cNvSpPr/>
              <p:nvPr/>
            </p:nvSpPr>
            <p:spPr>
              <a:xfrm>
                <a:off x="24120" y="868320"/>
                <a:ext cx="69732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40" y="857160"/>
                <a:ext cx="739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743040" y="857160"/>
              <a:ext cx="3584160" cy="487440"/>
              <a:chOff x="743040" y="857160"/>
              <a:chExt cx="3584160" cy="487440"/>
            </a:xfrm>
          </p:grpSpPr>
          <p:sp>
            <p:nvSpPr>
              <p:cNvPr id="138" name=""/>
              <p:cNvSpPr/>
              <p:nvPr/>
            </p:nvSpPr>
            <p:spPr>
              <a:xfrm>
                <a:off x="763920" y="868320"/>
                <a:ext cx="354204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3040" y="857160"/>
                <a:ext cx="358416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240" y="1336680"/>
              <a:ext cx="739440" cy="487440"/>
              <a:chOff x="3240" y="1336680"/>
              <a:chExt cx="739440" cy="487440"/>
            </a:xfrm>
          </p:grpSpPr>
          <p:sp>
            <p:nvSpPr>
              <p:cNvPr id="141" name=""/>
              <p:cNvSpPr/>
              <p:nvPr/>
            </p:nvSpPr>
            <p:spPr>
              <a:xfrm>
                <a:off x="24120" y="1342080"/>
                <a:ext cx="697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40" y="1336680"/>
                <a:ext cx="739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763560" y="1366920"/>
              <a:ext cx="3543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acquire and apply knowledge of basic science and engineering fundamental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3040" y="1336680"/>
              <a:ext cx="3584520" cy="487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321080" y="1336680"/>
              <a:ext cx="796680" cy="487440"/>
              <a:chOff x="4321080" y="1336680"/>
              <a:chExt cx="796680" cy="487440"/>
            </a:xfrm>
          </p:grpSpPr>
          <p:sp>
            <p:nvSpPr>
              <p:cNvPr id="146" name=""/>
              <p:cNvSpPr/>
              <p:nvPr/>
            </p:nvSpPr>
            <p:spPr>
              <a:xfrm>
                <a:off x="4341960" y="134208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21080" y="133668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124600" y="1336680"/>
              <a:ext cx="798120" cy="487440"/>
              <a:chOff x="5124600" y="1336680"/>
              <a:chExt cx="798120" cy="487440"/>
            </a:xfrm>
          </p:grpSpPr>
          <p:sp>
            <p:nvSpPr>
              <p:cNvPr id="149" name=""/>
              <p:cNvSpPr/>
              <p:nvPr/>
            </p:nvSpPr>
            <p:spPr>
              <a:xfrm>
                <a:off x="5145480" y="1342080"/>
                <a:ext cx="7560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24600" y="1336680"/>
                <a:ext cx="798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923080" y="1336680"/>
              <a:ext cx="796320" cy="487440"/>
              <a:chOff x="5923080" y="1336680"/>
              <a:chExt cx="796320" cy="487440"/>
            </a:xfrm>
          </p:grpSpPr>
          <p:sp>
            <p:nvSpPr>
              <p:cNvPr id="152" name=""/>
              <p:cNvSpPr/>
              <p:nvPr/>
            </p:nvSpPr>
            <p:spPr>
              <a:xfrm>
                <a:off x="5943960" y="1342080"/>
                <a:ext cx="7542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923080" y="1336680"/>
                <a:ext cx="7963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719760" y="1336680"/>
              <a:ext cx="793440" cy="487440"/>
              <a:chOff x="6719760" y="1336680"/>
              <a:chExt cx="793440" cy="487440"/>
            </a:xfrm>
          </p:grpSpPr>
          <p:sp>
            <p:nvSpPr>
              <p:cNvPr id="155" name=""/>
              <p:cNvSpPr/>
              <p:nvPr/>
            </p:nvSpPr>
            <p:spPr>
              <a:xfrm>
                <a:off x="6740640" y="1342080"/>
                <a:ext cx="751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19760" y="1336680"/>
                <a:ext cx="793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7513560" y="1336680"/>
              <a:ext cx="796680" cy="487440"/>
              <a:chOff x="7513560" y="1336680"/>
              <a:chExt cx="796680" cy="487440"/>
            </a:xfrm>
          </p:grpSpPr>
          <p:sp>
            <p:nvSpPr>
              <p:cNvPr id="158" name=""/>
              <p:cNvSpPr/>
              <p:nvPr/>
            </p:nvSpPr>
            <p:spPr>
              <a:xfrm>
                <a:off x="7535160" y="1342080"/>
                <a:ext cx="753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513560" y="133668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8310600" y="1343160"/>
              <a:ext cx="717120" cy="480960"/>
              <a:chOff x="8310600" y="1343160"/>
              <a:chExt cx="717120" cy="480960"/>
            </a:xfrm>
          </p:grpSpPr>
          <p:sp>
            <p:nvSpPr>
              <p:cNvPr id="161" name=""/>
              <p:cNvSpPr/>
              <p:nvPr/>
            </p:nvSpPr>
            <p:spPr>
              <a:xfrm>
                <a:off x="8326440" y="1348560"/>
                <a:ext cx="6850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310600" y="1343160"/>
                <a:ext cx="717120" cy="48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760320" y="1836720"/>
              <a:ext cx="354348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communicate effectively, not only with engineers but also with the community at larg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8360" y="1824120"/>
              <a:ext cx="3585960" cy="485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324320" y="1824120"/>
              <a:ext cx="796680" cy="973080"/>
              <a:chOff x="4324320" y="1824120"/>
              <a:chExt cx="796680" cy="973080"/>
            </a:xfrm>
          </p:grpSpPr>
          <p:sp>
            <p:nvSpPr>
              <p:cNvPr id="166" name=""/>
              <p:cNvSpPr/>
              <p:nvPr/>
            </p:nvSpPr>
            <p:spPr>
              <a:xfrm>
                <a:off x="4345200" y="1835280"/>
                <a:ext cx="754560" cy="96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24320" y="1824120"/>
                <a:ext cx="796680" cy="97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30080" y="2309760"/>
              <a:ext cx="35449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aving in-depth technical competence in a specific engineering disciplin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8360" y="2795760"/>
              <a:ext cx="3585960" cy="487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440" y="5788080"/>
              <a:ext cx="739440" cy="415800"/>
              <a:chOff x="1440" y="5788080"/>
              <a:chExt cx="739440" cy="415800"/>
            </a:xfrm>
          </p:grpSpPr>
          <p:sp>
            <p:nvSpPr>
              <p:cNvPr id="171" name=""/>
              <p:cNvSpPr/>
              <p:nvPr/>
            </p:nvSpPr>
            <p:spPr>
              <a:xfrm>
                <a:off x="22320" y="5793480"/>
                <a:ext cx="69732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9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40" y="5788080"/>
                <a:ext cx="73944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41240" y="5788080"/>
              <a:ext cx="3584160" cy="415800"/>
              <a:chOff x="741240" y="5788080"/>
              <a:chExt cx="3584160" cy="415800"/>
            </a:xfrm>
          </p:grpSpPr>
          <p:sp>
            <p:nvSpPr>
              <p:cNvPr id="174" name=""/>
              <p:cNvSpPr/>
              <p:nvPr/>
            </p:nvSpPr>
            <p:spPr>
              <a:xfrm>
                <a:off x="762120" y="5793480"/>
                <a:ext cx="354204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Ability to design and conduct experiments, as well as to analyse and interpret data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41240" y="5788080"/>
                <a:ext cx="358416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325760" y="5788080"/>
              <a:ext cx="796680" cy="415800"/>
              <a:chOff x="4325760" y="5788080"/>
              <a:chExt cx="796680" cy="415800"/>
            </a:xfrm>
          </p:grpSpPr>
          <p:sp>
            <p:nvSpPr>
              <p:cNvPr id="177" name=""/>
              <p:cNvSpPr/>
              <p:nvPr/>
            </p:nvSpPr>
            <p:spPr>
              <a:xfrm>
                <a:off x="4346640" y="5793480"/>
                <a:ext cx="75456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25760" y="5788080"/>
                <a:ext cx="79668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122800" y="5788080"/>
              <a:ext cx="798120" cy="415800"/>
              <a:chOff x="5122800" y="5788080"/>
              <a:chExt cx="798120" cy="415800"/>
            </a:xfrm>
          </p:grpSpPr>
          <p:sp>
            <p:nvSpPr>
              <p:cNvPr id="180" name=""/>
              <p:cNvSpPr/>
              <p:nvPr/>
            </p:nvSpPr>
            <p:spPr>
              <a:xfrm>
                <a:off x="5143680" y="5793480"/>
                <a:ext cx="75600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22800" y="5788080"/>
                <a:ext cx="79812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921280" y="5788080"/>
              <a:ext cx="796680" cy="415800"/>
              <a:chOff x="5921280" y="5788080"/>
              <a:chExt cx="796680" cy="415800"/>
            </a:xfrm>
          </p:grpSpPr>
          <p:sp>
            <p:nvSpPr>
              <p:cNvPr id="183" name=""/>
              <p:cNvSpPr/>
              <p:nvPr/>
            </p:nvSpPr>
            <p:spPr>
              <a:xfrm>
                <a:off x="5942160" y="5793480"/>
                <a:ext cx="75456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21280" y="5788080"/>
                <a:ext cx="79668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711840" y="5788080"/>
              <a:ext cx="793440" cy="415800"/>
              <a:chOff x="6711840" y="5788080"/>
              <a:chExt cx="793440" cy="415800"/>
            </a:xfrm>
          </p:grpSpPr>
          <p:sp>
            <p:nvSpPr>
              <p:cNvPr id="186" name=""/>
              <p:cNvSpPr/>
              <p:nvPr/>
            </p:nvSpPr>
            <p:spPr>
              <a:xfrm>
                <a:off x="6732720" y="5793480"/>
                <a:ext cx="75132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11840" y="5788080"/>
                <a:ext cx="79344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7512120" y="5788080"/>
              <a:ext cx="796320" cy="415800"/>
              <a:chOff x="7512120" y="5788080"/>
              <a:chExt cx="796320" cy="415800"/>
            </a:xfrm>
          </p:grpSpPr>
          <p:sp>
            <p:nvSpPr>
              <p:cNvPr id="189" name=""/>
              <p:cNvSpPr/>
              <p:nvPr/>
            </p:nvSpPr>
            <p:spPr>
              <a:xfrm>
                <a:off x="7533720" y="5793480"/>
                <a:ext cx="75348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12120" y="5788080"/>
                <a:ext cx="79632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8308800" y="5788080"/>
              <a:ext cx="715680" cy="415800"/>
              <a:chOff x="8308800" y="5788080"/>
              <a:chExt cx="715680" cy="415800"/>
            </a:xfrm>
          </p:grpSpPr>
          <p:sp>
            <p:nvSpPr>
              <p:cNvPr id="192" name=""/>
              <p:cNvSpPr/>
              <p:nvPr/>
            </p:nvSpPr>
            <p:spPr>
              <a:xfrm>
                <a:off x="8324640" y="5793480"/>
                <a:ext cx="684000" cy="41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308800" y="5788080"/>
                <a:ext cx="715680" cy="41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1440" y="6203880"/>
              <a:ext cx="739440" cy="347760"/>
              <a:chOff x="1440" y="6203880"/>
              <a:chExt cx="739440" cy="347760"/>
            </a:xfrm>
          </p:grpSpPr>
          <p:sp>
            <p:nvSpPr>
              <p:cNvPr id="195" name=""/>
              <p:cNvSpPr/>
              <p:nvPr/>
            </p:nvSpPr>
            <p:spPr>
              <a:xfrm>
                <a:off x="22320" y="6210000"/>
                <a:ext cx="697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440" y="6203880"/>
                <a:ext cx="73944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41240" y="6203880"/>
              <a:ext cx="3584160" cy="347760"/>
              <a:chOff x="741240" y="6203880"/>
              <a:chExt cx="3584160" cy="347760"/>
            </a:xfrm>
          </p:grpSpPr>
          <p:sp>
            <p:nvSpPr>
              <p:cNvPr id="198" name=""/>
              <p:cNvSpPr/>
              <p:nvPr/>
            </p:nvSpPr>
            <p:spPr>
              <a:xfrm>
                <a:off x="762120" y="6210000"/>
                <a:ext cx="3542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Ability to function on multi-disciplinary team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41240" y="6203880"/>
                <a:ext cx="35841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325760" y="6203880"/>
              <a:ext cx="796680" cy="347760"/>
              <a:chOff x="4325760" y="6203880"/>
              <a:chExt cx="796680" cy="347760"/>
            </a:xfrm>
          </p:grpSpPr>
          <p:sp>
            <p:nvSpPr>
              <p:cNvPr id="201" name=""/>
              <p:cNvSpPr/>
              <p:nvPr/>
            </p:nvSpPr>
            <p:spPr>
              <a:xfrm>
                <a:off x="4346640" y="6210000"/>
                <a:ext cx="75456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25760" y="6203880"/>
                <a:ext cx="79668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5122800" y="6203880"/>
              <a:ext cx="798120" cy="347760"/>
              <a:chOff x="5122800" y="6203880"/>
              <a:chExt cx="798120" cy="347760"/>
            </a:xfrm>
          </p:grpSpPr>
          <p:sp>
            <p:nvSpPr>
              <p:cNvPr id="204" name=""/>
              <p:cNvSpPr/>
              <p:nvPr/>
            </p:nvSpPr>
            <p:spPr>
              <a:xfrm>
                <a:off x="5143680" y="6210000"/>
                <a:ext cx="756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22800" y="6203880"/>
                <a:ext cx="798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5921280" y="6203880"/>
              <a:ext cx="796680" cy="347760"/>
              <a:chOff x="5921280" y="6203880"/>
              <a:chExt cx="796680" cy="347760"/>
            </a:xfrm>
          </p:grpSpPr>
          <p:sp>
            <p:nvSpPr>
              <p:cNvPr id="207" name=""/>
              <p:cNvSpPr/>
              <p:nvPr/>
            </p:nvSpPr>
            <p:spPr>
              <a:xfrm>
                <a:off x="5942160" y="6210000"/>
                <a:ext cx="75456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21280" y="6203880"/>
                <a:ext cx="79668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718320" y="6203880"/>
              <a:ext cx="793440" cy="347760"/>
              <a:chOff x="6718320" y="6203880"/>
              <a:chExt cx="793440" cy="347760"/>
            </a:xfrm>
          </p:grpSpPr>
          <p:sp>
            <p:nvSpPr>
              <p:cNvPr id="210" name=""/>
              <p:cNvSpPr/>
              <p:nvPr/>
            </p:nvSpPr>
            <p:spPr>
              <a:xfrm>
                <a:off x="6739200" y="6210000"/>
                <a:ext cx="751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18320" y="6203880"/>
                <a:ext cx="79344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512120" y="6203880"/>
              <a:ext cx="796320" cy="347760"/>
              <a:chOff x="7512120" y="6203880"/>
              <a:chExt cx="796320" cy="347760"/>
            </a:xfrm>
          </p:grpSpPr>
          <p:sp>
            <p:nvSpPr>
              <p:cNvPr id="213" name=""/>
              <p:cNvSpPr/>
              <p:nvPr/>
            </p:nvSpPr>
            <p:spPr>
              <a:xfrm>
                <a:off x="7533720" y="6210000"/>
                <a:ext cx="7534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12120" y="6203880"/>
                <a:ext cx="7963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8308800" y="6203880"/>
              <a:ext cx="715680" cy="347760"/>
              <a:chOff x="8308800" y="6203880"/>
              <a:chExt cx="715680" cy="347760"/>
            </a:xfrm>
          </p:grpSpPr>
          <p:sp>
            <p:nvSpPr>
              <p:cNvPr id="216" name=""/>
              <p:cNvSpPr/>
              <p:nvPr/>
            </p:nvSpPr>
            <p:spPr>
              <a:xfrm>
                <a:off x="8324640" y="6210000"/>
                <a:ext cx="684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308800" y="6203880"/>
                <a:ext cx="71568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440" y="6551640"/>
              <a:ext cx="739440" cy="279360"/>
              <a:chOff x="1440" y="6551640"/>
              <a:chExt cx="739440" cy="279360"/>
            </a:xfrm>
          </p:grpSpPr>
          <p:sp>
            <p:nvSpPr>
              <p:cNvPr id="219" name=""/>
              <p:cNvSpPr/>
              <p:nvPr/>
            </p:nvSpPr>
            <p:spPr>
              <a:xfrm>
                <a:off x="22320" y="6556320"/>
                <a:ext cx="697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1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40" y="6551640"/>
                <a:ext cx="73944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741240" y="6551640"/>
              <a:ext cx="3584160" cy="279360"/>
              <a:chOff x="741240" y="6551640"/>
              <a:chExt cx="3584160" cy="279360"/>
            </a:xfrm>
          </p:grpSpPr>
          <p:sp>
            <p:nvSpPr>
              <p:cNvPr id="222" name=""/>
              <p:cNvSpPr/>
              <p:nvPr/>
            </p:nvSpPr>
            <p:spPr>
              <a:xfrm>
                <a:off x="762120" y="6556320"/>
                <a:ext cx="3542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Having the knowledge of contemporary issues.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1240" y="6551640"/>
                <a:ext cx="358416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4325760" y="6551640"/>
              <a:ext cx="796680" cy="279360"/>
              <a:chOff x="4325760" y="6551640"/>
              <a:chExt cx="796680" cy="279360"/>
            </a:xfrm>
          </p:grpSpPr>
          <p:sp>
            <p:nvSpPr>
              <p:cNvPr id="225" name=""/>
              <p:cNvSpPr/>
              <p:nvPr/>
            </p:nvSpPr>
            <p:spPr>
              <a:xfrm>
                <a:off x="4346640" y="6556320"/>
                <a:ext cx="754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325760" y="6551640"/>
                <a:ext cx="79668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122800" y="6551640"/>
              <a:ext cx="798120" cy="279360"/>
              <a:chOff x="5122800" y="6551640"/>
              <a:chExt cx="798120" cy="279360"/>
            </a:xfrm>
          </p:grpSpPr>
          <p:sp>
            <p:nvSpPr>
              <p:cNvPr id="228" name=""/>
              <p:cNvSpPr/>
              <p:nvPr/>
            </p:nvSpPr>
            <p:spPr>
              <a:xfrm>
                <a:off x="5143680" y="6556320"/>
                <a:ext cx="756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22800" y="6551640"/>
                <a:ext cx="79812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921280" y="6551640"/>
              <a:ext cx="796680" cy="279360"/>
              <a:chOff x="5921280" y="6551640"/>
              <a:chExt cx="796680" cy="279360"/>
            </a:xfrm>
          </p:grpSpPr>
          <p:sp>
            <p:nvSpPr>
              <p:cNvPr id="231" name=""/>
              <p:cNvSpPr/>
              <p:nvPr/>
            </p:nvSpPr>
            <p:spPr>
              <a:xfrm>
                <a:off x="5942160" y="6556320"/>
                <a:ext cx="754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921280" y="6551640"/>
                <a:ext cx="79668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718320" y="6551640"/>
              <a:ext cx="793440" cy="279360"/>
              <a:chOff x="6718320" y="6551640"/>
              <a:chExt cx="793440" cy="279360"/>
            </a:xfrm>
          </p:grpSpPr>
          <p:sp>
            <p:nvSpPr>
              <p:cNvPr id="234" name=""/>
              <p:cNvSpPr/>
              <p:nvPr/>
            </p:nvSpPr>
            <p:spPr>
              <a:xfrm>
                <a:off x="6739200" y="6556320"/>
                <a:ext cx="751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18320" y="6551640"/>
                <a:ext cx="79344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7512120" y="6551640"/>
              <a:ext cx="796320" cy="279360"/>
              <a:chOff x="7512120" y="6551640"/>
              <a:chExt cx="796320" cy="279360"/>
            </a:xfrm>
          </p:grpSpPr>
          <p:sp>
            <p:nvSpPr>
              <p:cNvPr id="237" name=""/>
              <p:cNvSpPr/>
              <p:nvPr/>
            </p:nvSpPr>
            <p:spPr>
              <a:xfrm>
                <a:off x="7533720" y="6556320"/>
                <a:ext cx="753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12120" y="6551640"/>
                <a:ext cx="79632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8308800" y="6551640"/>
              <a:ext cx="715680" cy="279360"/>
              <a:chOff x="8308800" y="6551640"/>
              <a:chExt cx="715680" cy="279360"/>
            </a:xfrm>
          </p:grpSpPr>
          <p:sp>
            <p:nvSpPr>
              <p:cNvPr id="240" name=""/>
              <p:cNvSpPr/>
              <p:nvPr/>
            </p:nvSpPr>
            <p:spPr>
              <a:xfrm>
                <a:off x="8324640" y="6556320"/>
                <a:ext cx="684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308800" y="6551640"/>
                <a:ext cx="715680" cy="279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398840" y="1406520"/>
              <a:ext cx="6159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5040" y="144612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3240" y="1824120"/>
              <a:ext cx="739440" cy="485640"/>
              <a:chOff x="3240" y="1824120"/>
              <a:chExt cx="739440" cy="485640"/>
            </a:xfrm>
          </p:grpSpPr>
          <p:sp>
            <p:nvSpPr>
              <p:cNvPr id="245" name=""/>
              <p:cNvSpPr/>
              <p:nvPr/>
            </p:nvSpPr>
            <p:spPr>
              <a:xfrm>
                <a:off x="24120" y="1829520"/>
                <a:ext cx="69732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40" y="1824120"/>
                <a:ext cx="73944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738360" y="2311560"/>
              <a:ext cx="3585960" cy="485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240" y="2309760"/>
              <a:ext cx="739440" cy="487440"/>
              <a:chOff x="3240" y="2309760"/>
              <a:chExt cx="739440" cy="487440"/>
            </a:xfrm>
          </p:grpSpPr>
          <p:sp>
            <p:nvSpPr>
              <p:cNvPr id="249" name=""/>
              <p:cNvSpPr/>
              <p:nvPr/>
            </p:nvSpPr>
            <p:spPr>
              <a:xfrm>
                <a:off x="24120" y="2315160"/>
                <a:ext cx="697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40" y="2309760"/>
                <a:ext cx="739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321080" y="1824120"/>
              <a:ext cx="796680" cy="485640"/>
              <a:chOff x="4321080" y="1824120"/>
              <a:chExt cx="796680" cy="485640"/>
            </a:xfrm>
          </p:grpSpPr>
          <p:sp>
            <p:nvSpPr>
              <p:cNvPr id="252" name=""/>
              <p:cNvSpPr/>
              <p:nvPr/>
            </p:nvSpPr>
            <p:spPr>
              <a:xfrm>
                <a:off x="4341960" y="1829520"/>
                <a:ext cx="75456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21080" y="1824120"/>
                <a:ext cx="79668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4321080" y="2309760"/>
              <a:ext cx="796680" cy="487440"/>
              <a:chOff x="4321080" y="2309760"/>
              <a:chExt cx="796680" cy="487440"/>
            </a:xfrm>
          </p:grpSpPr>
          <p:sp>
            <p:nvSpPr>
              <p:cNvPr id="255" name=""/>
              <p:cNvSpPr/>
              <p:nvPr/>
            </p:nvSpPr>
            <p:spPr>
              <a:xfrm>
                <a:off x="4341960" y="231516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321080" y="230976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5121360" y="1824120"/>
              <a:ext cx="798120" cy="485640"/>
              <a:chOff x="5121360" y="1824120"/>
              <a:chExt cx="798120" cy="485640"/>
            </a:xfrm>
          </p:grpSpPr>
          <p:sp>
            <p:nvSpPr>
              <p:cNvPr id="258" name=""/>
              <p:cNvSpPr/>
              <p:nvPr/>
            </p:nvSpPr>
            <p:spPr>
              <a:xfrm>
                <a:off x="5142240" y="1829520"/>
                <a:ext cx="75600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121360" y="1824120"/>
                <a:ext cx="79812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925960" y="1824120"/>
              <a:ext cx="796680" cy="485640"/>
              <a:chOff x="5925960" y="1824120"/>
              <a:chExt cx="796680" cy="485640"/>
            </a:xfrm>
          </p:grpSpPr>
          <p:sp>
            <p:nvSpPr>
              <p:cNvPr id="261" name=""/>
              <p:cNvSpPr/>
              <p:nvPr/>
            </p:nvSpPr>
            <p:spPr>
              <a:xfrm>
                <a:off x="5946840" y="1829520"/>
                <a:ext cx="75456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25960" y="1824120"/>
                <a:ext cx="79668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711840" y="1824120"/>
              <a:ext cx="793440" cy="485640"/>
              <a:chOff x="6711840" y="1824120"/>
              <a:chExt cx="793440" cy="485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732720" y="1829520"/>
                <a:ext cx="75132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11840" y="1824120"/>
                <a:ext cx="79344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7512120" y="1824120"/>
              <a:ext cx="796320" cy="485640"/>
              <a:chOff x="7512120" y="1824120"/>
              <a:chExt cx="796320" cy="485640"/>
            </a:xfrm>
          </p:grpSpPr>
          <p:sp>
            <p:nvSpPr>
              <p:cNvPr id="267" name=""/>
              <p:cNvSpPr/>
              <p:nvPr/>
            </p:nvSpPr>
            <p:spPr>
              <a:xfrm>
                <a:off x="7533720" y="1829520"/>
                <a:ext cx="75348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512120" y="1824120"/>
                <a:ext cx="79632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741240" y="2827440"/>
              <a:ext cx="35434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undertake problem identification, formulation and soluti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240" y="2797200"/>
              <a:ext cx="739440" cy="485640"/>
              <a:chOff x="3240" y="2797200"/>
              <a:chExt cx="739440" cy="485640"/>
            </a:xfrm>
          </p:grpSpPr>
          <p:sp>
            <p:nvSpPr>
              <p:cNvPr id="271" name=""/>
              <p:cNvSpPr/>
              <p:nvPr/>
            </p:nvSpPr>
            <p:spPr>
              <a:xfrm>
                <a:off x="24120" y="2802600"/>
                <a:ext cx="69732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240" y="2797200"/>
                <a:ext cx="73944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307360" y="1824120"/>
              <a:ext cx="717120" cy="480960"/>
              <a:chOff x="8307360" y="1824120"/>
              <a:chExt cx="717120" cy="480960"/>
            </a:xfrm>
          </p:grpSpPr>
          <p:sp>
            <p:nvSpPr>
              <p:cNvPr id="274" name=""/>
              <p:cNvSpPr/>
              <p:nvPr/>
            </p:nvSpPr>
            <p:spPr>
              <a:xfrm>
                <a:off x="8323200" y="1829520"/>
                <a:ext cx="6850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307360" y="1824120"/>
                <a:ext cx="717120" cy="48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8307360" y="2309760"/>
              <a:ext cx="717120" cy="487440"/>
              <a:chOff x="8307360" y="2309760"/>
              <a:chExt cx="717120" cy="487440"/>
            </a:xfrm>
          </p:grpSpPr>
          <p:sp>
            <p:nvSpPr>
              <p:cNvPr id="277" name=""/>
              <p:cNvSpPr/>
              <p:nvPr/>
            </p:nvSpPr>
            <p:spPr>
              <a:xfrm>
                <a:off x="8323200" y="2315160"/>
                <a:ext cx="68508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307360" y="2309760"/>
                <a:ext cx="717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925960" y="2309760"/>
              <a:ext cx="796680" cy="487440"/>
              <a:chOff x="5925960" y="2309760"/>
              <a:chExt cx="796680" cy="487440"/>
            </a:xfrm>
          </p:grpSpPr>
          <p:sp>
            <p:nvSpPr>
              <p:cNvPr id="280" name=""/>
              <p:cNvSpPr/>
              <p:nvPr/>
            </p:nvSpPr>
            <p:spPr>
              <a:xfrm>
                <a:off x="5946840" y="231516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25960" y="230976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6711840" y="2309760"/>
              <a:ext cx="793440" cy="487440"/>
              <a:chOff x="6711840" y="2309760"/>
              <a:chExt cx="793440" cy="487440"/>
            </a:xfrm>
          </p:grpSpPr>
          <p:sp>
            <p:nvSpPr>
              <p:cNvPr id="283" name=""/>
              <p:cNvSpPr/>
              <p:nvPr/>
            </p:nvSpPr>
            <p:spPr>
              <a:xfrm>
                <a:off x="6732720" y="2315160"/>
                <a:ext cx="751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711840" y="2309760"/>
                <a:ext cx="793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8307360" y="2790720"/>
              <a:ext cx="717120" cy="487440"/>
              <a:chOff x="8307360" y="2790720"/>
              <a:chExt cx="717120" cy="487440"/>
            </a:xfrm>
          </p:grpSpPr>
          <p:sp>
            <p:nvSpPr>
              <p:cNvPr id="286" name=""/>
              <p:cNvSpPr/>
              <p:nvPr/>
            </p:nvSpPr>
            <p:spPr>
              <a:xfrm>
                <a:off x="8323200" y="2796120"/>
                <a:ext cx="68508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307360" y="2790720"/>
                <a:ext cx="717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6711840" y="2805120"/>
              <a:ext cx="793440" cy="487440"/>
              <a:chOff x="6711840" y="2805120"/>
              <a:chExt cx="793440" cy="487440"/>
            </a:xfrm>
          </p:grpSpPr>
          <p:sp>
            <p:nvSpPr>
              <p:cNvPr id="289" name=""/>
              <p:cNvSpPr/>
              <p:nvPr/>
            </p:nvSpPr>
            <p:spPr>
              <a:xfrm>
                <a:off x="6732720" y="2810520"/>
                <a:ext cx="751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711840" y="2805120"/>
                <a:ext cx="793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121360" y="2309760"/>
              <a:ext cx="798120" cy="487440"/>
              <a:chOff x="5121360" y="2309760"/>
              <a:chExt cx="798120" cy="487440"/>
            </a:xfrm>
          </p:grpSpPr>
          <p:sp>
            <p:nvSpPr>
              <p:cNvPr id="292" name=""/>
              <p:cNvSpPr/>
              <p:nvPr/>
            </p:nvSpPr>
            <p:spPr>
              <a:xfrm>
                <a:off x="5142240" y="2315160"/>
                <a:ext cx="7560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21360" y="2309760"/>
                <a:ext cx="798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111640" y="2797200"/>
              <a:ext cx="798120" cy="485640"/>
              <a:chOff x="5111640" y="2797200"/>
              <a:chExt cx="798120" cy="485640"/>
            </a:xfrm>
          </p:grpSpPr>
          <p:sp>
            <p:nvSpPr>
              <p:cNvPr id="295" name=""/>
              <p:cNvSpPr/>
              <p:nvPr/>
            </p:nvSpPr>
            <p:spPr>
              <a:xfrm>
                <a:off x="5132520" y="2802600"/>
                <a:ext cx="75600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11640" y="2797200"/>
                <a:ext cx="79812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7502400" y="2309760"/>
              <a:ext cx="796680" cy="487440"/>
              <a:chOff x="7502400" y="2309760"/>
              <a:chExt cx="796680" cy="487440"/>
            </a:xfrm>
          </p:grpSpPr>
          <p:sp>
            <p:nvSpPr>
              <p:cNvPr id="298" name=""/>
              <p:cNvSpPr/>
              <p:nvPr/>
            </p:nvSpPr>
            <p:spPr>
              <a:xfrm>
                <a:off x="7524000" y="2315160"/>
                <a:ext cx="753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02400" y="230976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516800" y="2797200"/>
              <a:ext cx="796680" cy="485640"/>
              <a:chOff x="7516800" y="2797200"/>
              <a:chExt cx="796680" cy="485640"/>
            </a:xfrm>
          </p:grpSpPr>
          <p:sp>
            <p:nvSpPr>
              <p:cNvPr id="301" name=""/>
              <p:cNvSpPr/>
              <p:nvPr/>
            </p:nvSpPr>
            <p:spPr>
              <a:xfrm>
                <a:off x="7538400" y="2802600"/>
                <a:ext cx="75384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516800" y="2797200"/>
                <a:ext cx="79668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5160960"/>
              <a:ext cx="738000" cy="627120"/>
              <a:chOff x="0" y="5160960"/>
              <a:chExt cx="738000" cy="627120"/>
            </a:xfrm>
          </p:grpSpPr>
          <p:sp>
            <p:nvSpPr>
              <p:cNvPr id="304" name=""/>
              <p:cNvSpPr/>
              <p:nvPr/>
            </p:nvSpPr>
            <p:spPr>
              <a:xfrm>
                <a:off x="20880" y="5168160"/>
                <a:ext cx="69588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8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5160960"/>
                <a:ext cx="73800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798480" y="5187960"/>
              <a:ext cx="3543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cognising the need to undertake lifelong learning, and possessing/acquiring the capacity to do s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8360" y="5160960"/>
              <a:ext cx="3585960" cy="627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4317840" y="5160960"/>
              <a:ext cx="796680" cy="627120"/>
              <a:chOff x="4317840" y="5160960"/>
              <a:chExt cx="796680" cy="627120"/>
            </a:xfrm>
          </p:grpSpPr>
          <p:sp>
            <p:nvSpPr>
              <p:cNvPr id="309" name=""/>
              <p:cNvSpPr/>
              <p:nvPr/>
            </p:nvSpPr>
            <p:spPr>
              <a:xfrm>
                <a:off x="4338720" y="5168160"/>
                <a:ext cx="75456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17840" y="5160960"/>
                <a:ext cx="79668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5121360" y="5160960"/>
              <a:ext cx="798120" cy="627120"/>
              <a:chOff x="5121360" y="5160960"/>
              <a:chExt cx="798120" cy="627120"/>
            </a:xfrm>
          </p:grpSpPr>
          <p:sp>
            <p:nvSpPr>
              <p:cNvPr id="312" name=""/>
              <p:cNvSpPr/>
              <p:nvPr/>
            </p:nvSpPr>
            <p:spPr>
              <a:xfrm>
                <a:off x="5142240" y="5168160"/>
                <a:ext cx="75600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121360" y="5160960"/>
                <a:ext cx="79812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6716880" y="5160960"/>
              <a:ext cx="793080" cy="627120"/>
              <a:chOff x="6716880" y="5160960"/>
              <a:chExt cx="793080" cy="627120"/>
            </a:xfrm>
          </p:grpSpPr>
          <p:sp>
            <p:nvSpPr>
              <p:cNvPr id="315" name=""/>
              <p:cNvSpPr/>
              <p:nvPr/>
            </p:nvSpPr>
            <p:spPr>
              <a:xfrm>
                <a:off x="6737760" y="5168160"/>
                <a:ext cx="75096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716880" y="5160960"/>
                <a:ext cx="79308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7510320" y="5160960"/>
              <a:ext cx="796680" cy="627120"/>
              <a:chOff x="7510320" y="5160960"/>
              <a:chExt cx="796680" cy="627120"/>
            </a:xfrm>
          </p:grpSpPr>
          <p:sp>
            <p:nvSpPr>
              <p:cNvPr id="318" name=""/>
              <p:cNvSpPr/>
              <p:nvPr/>
            </p:nvSpPr>
            <p:spPr>
              <a:xfrm>
                <a:off x="7531920" y="5168160"/>
                <a:ext cx="75384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510320" y="5160960"/>
                <a:ext cx="79668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8307360" y="5167440"/>
              <a:ext cx="717120" cy="620640"/>
              <a:chOff x="8307360" y="5167440"/>
              <a:chExt cx="717120" cy="620640"/>
            </a:xfrm>
          </p:grpSpPr>
          <p:sp>
            <p:nvSpPr>
              <p:cNvPr id="321" name=""/>
              <p:cNvSpPr/>
              <p:nvPr/>
            </p:nvSpPr>
            <p:spPr>
              <a:xfrm>
                <a:off x="8323200" y="5174280"/>
                <a:ext cx="685080" cy="61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307360" y="5167440"/>
                <a:ext cx="717120" cy="62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3282840"/>
              <a:ext cx="738000" cy="487440"/>
              <a:chOff x="0" y="3282840"/>
              <a:chExt cx="738000" cy="487440"/>
            </a:xfrm>
          </p:grpSpPr>
          <p:sp>
            <p:nvSpPr>
              <p:cNvPr id="324" name=""/>
              <p:cNvSpPr/>
              <p:nvPr/>
            </p:nvSpPr>
            <p:spPr>
              <a:xfrm>
                <a:off x="20880" y="3288240"/>
                <a:ext cx="69588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3282840"/>
                <a:ext cx="73800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760320" y="3314880"/>
              <a:ext cx="3543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utilise a systems approach to design and evaluate operational perform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8360" y="3282840"/>
              <a:ext cx="3585960" cy="487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4317840" y="3282840"/>
              <a:ext cx="796680" cy="487440"/>
              <a:chOff x="4317840" y="3282840"/>
              <a:chExt cx="796680" cy="487440"/>
            </a:xfrm>
          </p:grpSpPr>
          <p:sp>
            <p:nvSpPr>
              <p:cNvPr id="329" name=""/>
              <p:cNvSpPr/>
              <p:nvPr/>
            </p:nvSpPr>
            <p:spPr>
              <a:xfrm>
                <a:off x="4338720" y="328824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17840" y="328284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121360" y="3282840"/>
              <a:ext cx="798120" cy="487440"/>
              <a:chOff x="5121360" y="3282840"/>
              <a:chExt cx="798120" cy="487440"/>
            </a:xfrm>
          </p:grpSpPr>
          <p:sp>
            <p:nvSpPr>
              <p:cNvPr id="332" name=""/>
              <p:cNvSpPr/>
              <p:nvPr/>
            </p:nvSpPr>
            <p:spPr>
              <a:xfrm>
                <a:off x="5142240" y="3288240"/>
                <a:ext cx="75600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21360" y="3282840"/>
                <a:ext cx="79812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919840" y="3282840"/>
              <a:ext cx="796680" cy="487440"/>
              <a:chOff x="5919840" y="3282840"/>
              <a:chExt cx="796680" cy="487440"/>
            </a:xfrm>
          </p:grpSpPr>
          <p:sp>
            <p:nvSpPr>
              <p:cNvPr id="335" name=""/>
              <p:cNvSpPr/>
              <p:nvPr/>
            </p:nvSpPr>
            <p:spPr>
              <a:xfrm>
                <a:off x="5940720" y="3288240"/>
                <a:ext cx="7545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919840" y="328284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716880" y="3282840"/>
              <a:ext cx="793080" cy="487440"/>
              <a:chOff x="6716880" y="3282840"/>
              <a:chExt cx="793080" cy="487440"/>
            </a:xfrm>
          </p:grpSpPr>
          <p:sp>
            <p:nvSpPr>
              <p:cNvPr id="338" name=""/>
              <p:cNvSpPr/>
              <p:nvPr/>
            </p:nvSpPr>
            <p:spPr>
              <a:xfrm>
                <a:off x="6737760" y="3288240"/>
                <a:ext cx="75096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16880" y="3282840"/>
                <a:ext cx="7930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510320" y="3282840"/>
              <a:ext cx="796680" cy="487440"/>
              <a:chOff x="7510320" y="3282840"/>
              <a:chExt cx="796680" cy="487440"/>
            </a:xfrm>
          </p:grpSpPr>
          <p:sp>
            <p:nvSpPr>
              <p:cNvPr id="341" name=""/>
              <p:cNvSpPr/>
              <p:nvPr/>
            </p:nvSpPr>
            <p:spPr>
              <a:xfrm>
                <a:off x="7531920" y="3288240"/>
                <a:ext cx="753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510320" y="328284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8307360" y="3289320"/>
              <a:ext cx="717120" cy="480960"/>
              <a:chOff x="8307360" y="3289320"/>
              <a:chExt cx="717120" cy="480960"/>
            </a:xfrm>
          </p:grpSpPr>
          <p:sp>
            <p:nvSpPr>
              <p:cNvPr id="344" name=""/>
              <p:cNvSpPr/>
              <p:nvPr/>
            </p:nvSpPr>
            <p:spPr>
              <a:xfrm>
                <a:off x="8323200" y="3294720"/>
                <a:ext cx="6850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307360" y="3289320"/>
                <a:ext cx="717120" cy="48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779400" y="3770280"/>
              <a:ext cx="35434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bility to function effectively as an individual and in a group with the capacity to be a leader or manager as well as an effective team member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8360" y="4386240"/>
              <a:ext cx="3585960" cy="766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360" y="3763800"/>
              <a:ext cx="3585960" cy="6224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3240" y="3762360"/>
              <a:ext cx="739440" cy="623880"/>
              <a:chOff x="3240" y="3762360"/>
              <a:chExt cx="739440" cy="623880"/>
            </a:xfrm>
          </p:grpSpPr>
          <p:sp>
            <p:nvSpPr>
              <p:cNvPr id="350" name=""/>
              <p:cNvSpPr/>
              <p:nvPr/>
            </p:nvSpPr>
            <p:spPr>
              <a:xfrm>
                <a:off x="24120" y="3769200"/>
                <a:ext cx="69732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240" y="3762360"/>
                <a:ext cx="73944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4321080" y="3762360"/>
              <a:ext cx="796680" cy="623880"/>
              <a:chOff x="4321080" y="3762360"/>
              <a:chExt cx="796680" cy="623880"/>
            </a:xfrm>
          </p:grpSpPr>
          <p:sp>
            <p:nvSpPr>
              <p:cNvPr id="353" name=""/>
              <p:cNvSpPr/>
              <p:nvPr/>
            </p:nvSpPr>
            <p:spPr>
              <a:xfrm>
                <a:off x="4341960" y="3769200"/>
                <a:ext cx="75456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21080" y="3762360"/>
                <a:ext cx="79668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793800" y="4414680"/>
              <a:ext cx="354312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aving the understanding of the social, cultural, global and environmental responsibilities and ethics of a professional engineer and the need for sustainable development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240" y="4386240"/>
              <a:ext cx="739440" cy="766800"/>
              <a:chOff x="3240" y="4386240"/>
              <a:chExt cx="739440" cy="766800"/>
            </a:xfrm>
          </p:grpSpPr>
          <p:sp>
            <p:nvSpPr>
              <p:cNvPr id="357" name=""/>
              <p:cNvSpPr/>
              <p:nvPr/>
            </p:nvSpPr>
            <p:spPr>
              <a:xfrm>
                <a:off x="24120" y="4394880"/>
                <a:ext cx="69732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7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40" y="4386240"/>
                <a:ext cx="73944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8307360" y="3762360"/>
              <a:ext cx="717120" cy="623880"/>
              <a:chOff x="8307360" y="3762360"/>
              <a:chExt cx="717120" cy="623880"/>
            </a:xfrm>
          </p:grpSpPr>
          <p:sp>
            <p:nvSpPr>
              <p:cNvPr id="360" name=""/>
              <p:cNvSpPr/>
              <p:nvPr/>
            </p:nvSpPr>
            <p:spPr>
              <a:xfrm>
                <a:off x="8323200" y="3769200"/>
                <a:ext cx="68508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307360" y="3762360"/>
                <a:ext cx="71712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925960" y="3762360"/>
              <a:ext cx="796680" cy="623880"/>
              <a:chOff x="5925960" y="3762360"/>
              <a:chExt cx="796680" cy="623880"/>
            </a:xfrm>
          </p:grpSpPr>
          <p:sp>
            <p:nvSpPr>
              <p:cNvPr id="363" name=""/>
              <p:cNvSpPr/>
              <p:nvPr/>
            </p:nvSpPr>
            <p:spPr>
              <a:xfrm>
                <a:off x="5946840" y="3769200"/>
                <a:ext cx="75456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25960" y="3762360"/>
                <a:ext cx="79668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711840" y="3762360"/>
              <a:ext cx="793440" cy="623880"/>
              <a:chOff x="6711840" y="3762360"/>
              <a:chExt cx="793440" cy="623880"/>
            </a:xfrm>
          </p:grpSpPr>
          <p:sp>
            <p:nvSpPr>
              <p:cNvPr id="366" name=""/>
              <p:cNvSpPr/>
              <p:nvPr/>
            </p:nvSpPr>
            <p:spPr>
              <a:xfrm>
                <a:off x="6732720" y="3769200"/>
                <a:ext cx="75132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711840" y="3762360"/>
                <a:ext cx="79344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4321080" y="4386240"/>
              <a:ext cx="796680" cy="766800"/>
              <a:chOff x="4321080" y="4386240"/>
              <a:chExt cx="796680" cy="766800"/>
            </a:xfrm>
          </p:grpSpPr>
          <p:sp>
            <p:nvSpPr>
              <p:cNvPr id="369" name=""/>
              <p:cNvSpPr/>
              <p:nvPr/>
            </p:nvSpPr>
            <p:spPr>
              <a:xfrm>
                <a:off x="4341960" y="4394880"/>
                <a:ext cx="75456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321080" y="4386240"/>
                <a:ext cx="79668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8307360" y="4386240"/>
              <a:ext cx="717120" cy="766800"/>
              <a:chOff x="8307360" y="4386240"/>
              <a:chExt cx="717120" cy="766800"/>
            </a:xfrm>
          </p:grpSpPr>
          <p:sp>
            <p:nvSpPr>
              <p:cNvPr id="372" name=""/>
              <p:cNvSpPr/>
              <p:nvPr/>
            </p:nvSpPr>
            <p:spPr>
              <a:xfrm>
                <a:off x="8323200" y="4394880"/>
                <a:ext cx="68508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307360" y="4386240"/>
                <a:ext cx="71712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925960" y="4386240"/>
              <a:ext cx="796680" cy="766800"/>
              <a:chOff x="5925960" y="4386240"/>
              <a:chExt cx="796680" cy="766800"/>
            </a:xfrm>
          </p:grpSpPr>
          <p:sp>
            <p:nvSpPr>
              <p:cNvPr id="375" name=""/>
              <p:cNvSpPr/>
              <p:nvPr/>
            </p:nvSpPr>
            <p:spPr>
              <a:xfrm>
                <a:off x="5946840" y="4394880"/>
                <a:ext cx="75456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25960" y="4386240"/>
                <a:ext cx="79668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711840" y="4386240"/>
              <a:ext cx="793440" cy="766800"/>
              <a:chOff x="6711840" y="4386240"/>
              <a:chExt cx="793440" cy="766800"/>
            </a:xfrm>
          </p:grpSpPr>
          <p:sp>
            <p:nvSpPr>
              <p:cNvPr id="378" name=""/>
              <p:cNvSpPr/>
              <p:nvPr/>
            </p:nvSpPr>
            <p:spPr>
              <a:xfrm>
                <a:off x="6732720" y="4394880"/>
                <a:ext cx="75132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711840" y="4386240"/>
                <a:ext cx="79344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124600" y="4386240"/>
              <a:ext cx="798120" cy="766800"/>
              <a:chOff x="5124600" y="4386240"/>
              <a:chExt cx="798120" cy="766800"/>
            </a:xfrm>
          </p:grpSpPr>
          <p:sp>
            <p:nvSpPr>
              <p:cNvPr id="381" name=""/>
              <p:cNvSpPr/>
              <p:nvPr/>
            </p:nvSpPr>
            <p:spPr>
              <a:xfrm>
                <a:off x="5145480" y="4394880"/>
                <a:ext cx="75600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24600" y="4386240"/>
                <a:ext cx="79812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7502400" y="3762360"/>
              <a:ext cx="796680" cy="623880"/>
              <a:chOff x="7502400" y="3762360"/>
              <a:chExt cx="796680" cy="623880"/>
            </a:xfrm>
          </p:grpSpPr>
          <p:sp>
            <p:nvSpPr>
              <p:cNvPr id="384" name=""/>
              <p:cNvSpPr/>
              <p:nvPr/>
            </p:nvSpPr>
            <p:spPr>
              <a:xfrm>
                <a:off x="7524000" y="3769200"/>
                <a:ext cx="753840" cy="61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502400" y="3762360"/>
                <a:ext cx="796680" cy="623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516800" y="4386240"/>
              <a:ext cx="796680" cy="766800"/>
              <a:chOff x="7516800" y="4386240"/>
              <a:chExt cx="796680" cy="766800"/>
            </a:xfrm>
          </p:grpSpPr>
          <p:sp>
            <p:nvSpPr>
              <p:cNvPr id="387" name=""/>
              <p:cNvSpPr/>
              <p:nvPr/>
            </p:nvSpPr>
            <p:spPr>
              <a:xfrm>
                <a:off x="7538400" y="4394880"/>
                <a:ext cx="75384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16800" y="4386240"/>
                <a:ext cx="796680" cy="76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5915160" y="5160960"/>
              <a:ext cx="796320" cy="627120"/>
              <a:chOff x="5915160" y="5160960"/>
              <a:chExt cx="796320" cy="627120"/>
            </a:xfrm>
          </p:grpSpPr>
          <p:sp>
            <p:nvSpPr>
              <p:cNvPr id="390" name=""/>
              <p:cNvSpPr/>
              <p:nvPr/>
            </p:nvSpPr>
            <p:spPr>
              <a:xfrm>
                <a:off x="5936040" y="5168160"/>
                <a:ext cx="754200" cy="61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915160" y="5160960"/>
                <a:ext cx="796320" cy="627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5945040" y="194148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87960" y="240048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16680" y="241452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98000" y="291312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711840" y="341460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02400" y="396540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06960" y="465120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16880" y="465768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02480" y="5313240"/>
              <a:ext cx="69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58040" y="5300640"/>
              <a:ext cx="695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5126040" y="858960"/>
              <a:ext cx="796680" cy="485640"/>
              <a:chOff x="5126040" y="858960"/>
              <a:chExt cx="796680" cy="485640"/>
            </a:xfrm>
          </p:grpSpPr>
          <p:sp>
            <p:nvSpPr>
              <p:cNvPr id="403" name=""/>
              <p:cNvSpPr/>
              <p:nvPr/>
            </p:nvSpPr>
            <p:spPr>
              <a:xfrm>
                <a:off x="5146920" y="864360"/>
                <a:ext cx="75456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26040" y="858960"/>
                <a:ext cx="79668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935680" y="858960"/>
              <a:ext cx="779040" cy="485640"/>
              <a:chOff x="5935680" y="858960"/>
              <a:chExt cx="779040" cy="485640"/>
            </a:xfrm>
          </p:grpSpPr>
          <p:sp>
            <p:nvSpPr>
              <p:cNvPr id="406" name=""/>
              <p:cNvSpPr/>
              <p:nvPr/>
            </p:nvSpPr>
            <p:spPr>
              <a:xfrm>
                <a:off x="5956200" y="864360"/>
                <a:ext cx="737640" cy="48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br>
                  <a:rPr sz="1400"/>
                </a:b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935680" y="858960"/>
                <a:ext cx="779040" cy="485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570560" y="95076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61120" y="95076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65720" y="93024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85080" y="93672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80320" y="93024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526600" y="920880"/>
              <a:ext cx="61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6705720" y="860400"/>
              <a:ext cx="793440" cy="487440"/>
              <a:chOff x="6705720" y="860400"/>
              <a:chExt cx="793440" cy="487440"/>
            </a:xfrm>
          </p:grpSpPr>
          <p:sp>
            <p:nvSpPr>
              <p:cNvPr id="415" name=""/>
              <p:cNvSpPr/>
              <p:nvPr/>
            </p:nvSpPr>
            <p:spPr>
              <a:xfrm>
                <a:off x="6726600" y="865800"/>
                <a:ext cx="75132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705720" y="860400"/>
                <a:ext cx="79344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500960" y="860400"/>
              <a:ext cx="796680" cy="487440"/>
              <a:chOff x="7500960" y="860400"/>
              <a:chExt cx="796680" cy="487440"/>
            </a:xfrm>
          </p:grpSpPr>
          <p:sp>
            <p:nvSpPr>
              <p:cNvPr id="418" name=""/>
              <p:cNvSpPr/>
              <p:nvPr/>
            </p:nvSpPr>
            <p:spPr>
              <a:xfrm>
                <a:off x="7522560" y="865800"/>
                <a:ext cx="753840" cy="4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500960" y="860400"/>
                <a:ext cx="796680" cy="487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8298000" y="855720"/>
              <a:ext cx="717120" cy="480960"/>
              <a:chOff x="8298000" y="855720"/>
              <a:chExt cx="717120" cy="480960"/>
            </a:xfrm>
          </p:grpSpPr>
          <p:sp>
            <p:nvSpPr>
              <p:cNvPr id="421" name=""/>
              <p:cNvSpPr/>
              <p:nvPr/>
            </p:nvSpPr>
            <p:spPr>
              <a:xfrm>
                <a:off x="8313840" y="861120"/>
                <a:ext cx="68508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298000" y="855720"/>
                <a:ext cx="717120" cy="48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0" y="-1000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 – PEO Matr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efinition of Term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1219320"/>
            <a:ext cx="861048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OUTCOMES (CO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 are statements of student action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r what the student is able to do as the course progresse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at serve as evidence of the achievement of PO. These statements are more course specific and relate to the course cont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9480" y="5715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 are linked to 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429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917280" y="304920"/>
            <a:ext cx="702180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ogramme Educational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986120" y="1600200"/>
            <a:ext cx="464148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Programme Outcomes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59160" y="5486400"/>
            <a:ext cx="27759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urs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Course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88040" y="4495680"/>
            <a:ext cx="29559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Cours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Course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952880" y="2192400"/>
            <a:ext cx="271440" cy="3294000"/>
          </a:xfrm>
          <a:custGeom>
            <a:avLst/>
            <a:gdLst/>
            <a:ahLst/>
            <a:rect l="l" t="t" r="r" b="b"/>
            <a:pathLst>
              <a:path w="100" h="1920">
                <a:moveTo>
                  <a:pt x="0" y="1920"/>
                </a:moveTo>
                <a:cubicBezTo>
                  <a:pt x="1" y="1767"/>
                  <a:pt x="1" y="1169"/>
                  <a:pt x="4" y="989"/>
                </a:cubicBezTo>
                <a:cubicBezTo>
                  <a:pt x="7" y="809"/>
                  <a:pt x="11" y="907"/>
                  <a:pt x="18" y="841"/>
                </a:cubicBezTo>
                <a:cubicBezTo>
                  <a:pt x="25" y="775"/>
                  <a:pt x="35" y="678"/>
                  <a:pt x="46" y="594"/>
                </a:cubicBezTo>
                <a:cubicBezTo>
                  <a:pt x="57" y="510"/>
                  <a:pt x="73" y="437"/>
                  <a:pt x="82" y="338"/>
                </a:cubicBezTo>
                <a:cubicBezTo>
                  <a:pt x="91" y="239"/>
                  <a:pt x="96" y="70"/>
                  <a:pt x="100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767560" y="2171880"/>
            <a:ext cx="1800000" cy="2333520"/>
          </a:xfrm>
          <a:custGeom>
            <a:avLst/>
            <a:gdLst/>
            <a:ahLst/>
            <a:rect l="l" t="t" r="r" b="b"/>
            <a:pathLst>
              <a:path w="1134" h="1470">
                <a:moveTo>
                  <a:pt x="1119" y="1470"/>
                </a:moveTo>
                <a:cubicBezTo>
                  <a:pt x="1122" y="1224"/>
                  <a:pt x="1134" y="990"/>
                  <a:pt x="1119" y="858"/>
                </a:cubicBezTo>
                <a:cubicBezTo>
                  <a:pt x="1104" y="726"/>
                  <a:pt x="1076" y="727"/>
                  <a:pt x="1029" y="678"/>
                </a:cubicBezTo>
                <a:cubicBezTo>
                  <a:pt x="982" y="629"/>
                  <a:pt x="919" y="591"/>
                  <a:pt x="837" y="564"/>
                </a:cubicBezTo>
                <a:cubicBezTo>
                  <a:pt x="755" y="537"/>
                  <a:pt x="636" y="532"/>
                  <a:pt x="537" y="516"/>
                </a:cubicBezTo>
                <a:cubicBezTo>
                  <a:pt x="438" y="500"/>
                  <a:pt x="326" y="499"/>
                  <a:pt x="243" y="468"/>
                </a:cubicBezTo>
                <a:cubicBezTo>
                  <a:pt x="160" y="437"/>
                  <a:pt x="78" y="408"/>
                  <a:pt x="39" y="330"/>
                </a:cubicBezTo>
                <a:cubicBezTo>
                  <a:pt x="0" y="252"/>
                  <a:pt x="15" y="69"/>
                  <a:pt x="9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267080" y="914040"/>
            <a:ext cx="0" cy="647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11600" y="3962520"/>
            <a:ext cx="27759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urs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Course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36680" y="5398920"/>
            <a:ext cx="2775960" cy="9471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Course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Course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52680" y="2235240"/>
            <a:ext cx="812880" cy="172728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1371"/>
                </a:moveTo>
                <a:cubicBezTo>
                  <a:pt x="4" y="1295"/>
                  <a:pt x="0" y="1036"/>
                  <a:pt x="27" y="914"/>
                </a:cubicBezTo>
                <a:cubicBezTo>
                  <a:pt x="54" y="792"/>
                  <a:pt x="118" y="715"/>
                  <a:pt x="165" y="640"/>
                </a:cubicBezTo>
                <a:cubicBezTo>
                  <a:pt x="212" y="565"/>
                  <a:pt x="263" y="538"/>
                  <a:pt x="311" y="466"/>
                </a:cubicBezTo>
                <a:cubicBezTo>
                  <a:pt x="359" y="394"/>
                  <a:pt x="420" y="283"/>
                  <a:pt x="453" y="205"/>
                </a:cubicBezTo>
                <a:cubicBezTo>
                  <a:pt x="486" y="127"/>
                  <a:pt x="500" y="43"/>
                  <a:pt x="512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00120" y="2220840"/>
            <a:ext cx="1881360" cy="3143160"/>
          </a:xfrm>
          <a:custGeom>
            <a:avLst/>
            <a:gdLst/>
            <a:ahLst/>
            <a:rect l="l" t="t" r="r" b="b"/>
            <a:pathLst>
              <a:path w="1185" h="1980">
                <a:moveTo>
                  <a:pt x="29" y="1980"/>
                </a:moveTo>
                <a:cubicBezTo>
                  <a:pt x="30" y="1883"/>
                  <a:pt x="0" y="1564"/>
                  <a:pt x="33" y="1399"/>
                </a:cubicBezTo>
                <a:cubicBezTo>
                  <a:pt x="66" y="1234"/>
                  <a:pt x="140" y="1091"/>
                  <a:pt x="225" y="987"/>
                </a:cubicBezTo>
                <a:cubicBezTo>
                  <a:pt x="310" y="883"/>
                  <a:pt x="434" y="865"/>
                  <a:pt x="545" y="777"/>
                </a:cubicBezTo>
                <a:cubicBezTo>
                  <a:pt x="656" y="689"/>
                  <a:pt x="786" y="586"/>
                  <a:pt x="893" y="457"/>
                </a:cubicBezTo>
                <a:cubicBezTo>
                  <a:pt x="1000" y="328"/>
                  <a:pt x="1124" y="95"/>
                  <a:pt x="1185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44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375560" y="1371600"/>
            <a:ext cx="467496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urricular Revamp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445" name=""/>
          <p:cNvSpPr/>
          <p:nvPr/>
        </p:nvSpPr>
        <p:spPr>
          <a:xfrm>
            <a:off x="1757160" y="304920"/>
            <a:ext cx="189684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98880" y="2286000"/>
            <a:ext cx="453924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arting from scrat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8320" y="3809880"/>
            <a:ext cx="537300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Modify existing curricul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82480" y="3048120"/>
            <a:ext cx="497880" cy="5205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800600"/>
            <a:ext cx="846504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Delivery Methods/instructional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2680" y="5715000"/>
            <a:ext cx="715608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sssessment &amp; Evaluation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838080" y="297144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ulate PE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ulate P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Programme C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264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courses in the programme curriculum designated to address the PO. Preferably, courses that all students will take. Elective courses may or may not be chos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45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28240" y="27428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AutoNum type="arabicPeriod" startAt="4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e for each core course a set of one or more C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AutoNum type="arabicPeriod" startAt="4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pare a matrix of CO against PO (CO-PO Matrix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5520" indent="-536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 the level of emphasis on PO by each 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62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ies 1, 2, and 3 to b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rted in the matrix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te the level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s whether slightl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rately, 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bstantively addres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4191120"/>
            <a:ext cx="2895480" cy="2666880"/>
          </a:xfrm>
          <a:prstGeom prst="wedgeRoundRectCallout">
            <a:avLst>
              <a:gd name="adj1" fmla="val -93750"/>
              <a:gd name="adj2" fmla="val -2319"/>
              <a:gd name="adj3" fmla="val 16667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based on a review of course materials conducted by a committ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460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ample of a CO-PO Matri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43800" y="4405320"/>
            <a:ext cx="135108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utorial classes &amp; Laboratory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715000" y="4386240"/>
            <a:ext cx="167652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ecture and group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73720" y="3833640"/>
            <a:ext cx="25236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121360" y="3833640"/>
            <a:ext cx="25236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00600" y="441000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89360" y="383364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73720" y="3833640"/>
            <a:ext cx="21564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257720" y="383364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041720" y="383364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441000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581280" y="440532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94080" y="3833640"/>
            <a:ext cx="216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048120" y="4414680"/>
            <a:ext cx="30636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4405320"/>
            <a:ext cx="2666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bility to solve problems through computation on dynamic/vibration characteristic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f str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28600" y="4429080"/>
            <a:ext cx="24912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543800" y="3138480"/>
            <a:ext cx="13510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utorial classes &amp; Quizz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15000" y="3119400"/>
            <a:ext cx="17524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ecture and group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416560" y="3097080"/>
            <a:ext cx="2523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21360" y="3083040"/>
            <a:ext cx="25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90536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61000" y="3083040"/>
            <a:ext cx="21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73720" y="3083040"/>
            <a:ext cx="21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5772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04172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82572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610080" y="3083040"/>
            <a:ext cx="21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394080" y="3083040"/>
            <a:ext cx="216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87720" y="3083040"/>
            <a:ext cx="306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2819520"/>
            <a:ext cx="25909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bility to solve engineering problems related to building acoustic and environmental noise poll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4200" y="3052800"/>
            <a:ext cx="2494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499520" y="1752480"/>
            <a:ext cx="141588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ment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91320" y="1752480"/>
            <a:ext cx="13716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elivery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16560" y="1752480"/>
            <a:ext cx="2523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192640" y="1752480"/>
            <a:ext cx="2523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99104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4660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8776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72120" y="1752480"/>
            <a:ext cx="21564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02732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78288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581280" y="1752480"/>
            <a:ext cx="216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22800" y="1752480"/>
            <a:ext cx="21564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O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087720" y="1752480"/>
            <a:ext cx="3063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77720" y="1752480"/>
            <a:ext cx="2610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urse Outcomes (C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1752480"/>
            <a:ext cx="24912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" y="3083040"/>
            <a:ext cx="862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" y="4343400"/>
            <a:ext cx="862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1752480"/>
            <a:ext cx="8621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095880"/>
            <a:ext cx="8621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83908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175752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4332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14760" y="175752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4336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08636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343400" y="175752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8006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0292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864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391520" y="1752480"/>
            <a:ext cx="0" cy="4343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6320" y="6172200"/>
            <a:ext cx="7238880" cy="609480"/>
            <a:chOff x="76320" y="6172200"/>
            <a:chExt cx="7238880" cy="609480"/>
          </a:xfrm>
        </p:grpSpPr>
        <p:sp>
          <p:nvSpPr>
            <p:cNvPr id="529" name=""/>
            <p:cNvSpPr/>
            <p:nvPr/>
          </p:nvSpPr>
          <p:spPr>
            <a:xfrm>
              <a:off x="76320" y="6172200"/>
              <a:ext cx="7238880" cy="6094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1080" y="6247440"/>
              <a:ext cx="68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800000"/>
                  </a:solidFill>
                  <a:latin typeface="Arial"/>
                </a:rPr>
                <a:t>1 = CO address CO slightly ,  2 = moderately   3 = substan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53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6840" y="24382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e a matrix of courses against PO (Course-PO Matrix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5520" indent="-5364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e the level of emphasis on PO by each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62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out the entries in the CO-PO matrix and insert in the Course-PO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62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PO are covered and distributed throughout the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536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7" name=""/>
          <p:cNvGraphicFramePr/>
          <p:nvPr/>
        </p:nvGraphicFramePr>
        <p:xfrm>
          <a:off x="457200" y="914400"/>
          <a:ext cx="8686800" cy="53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686800" cy="53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62880" y="6010200"/>
            <a:ext cx="681120" cy="83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540" name=""/>
          <p:cNvSpPr/>
          <p:nvPr/>
        </p:nvSpPr>
        <p:spPr>
          <a:xfrm>
            <a:off x="38088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4920" y="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ample of Course – PO Matr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6381720"/>
            <a:ext cx="7238880" cy="476280"/>
            <a:chOff x="457200" y="6381720"/>
            <a:chExt cx="7238880" cy="476280"/>
          </a:xfrm>
        </p:grpSpPr>
        <p:sp>
          <p:nvSpPr>
            <p:cNvPr id="543" name=""/>
            <p:cNvSpPr/>
            <p:nvPr/>
          </p:nvSpPr>
          <p:spPr>
            <a:xfrm>
              <a:off x="457200" y="6381720"/>
              <a:ext cx="7238880" cy="47628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1960" y="6401520"/>
              <a:ext cx="68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800000"/>
                  </a:solidFill>
                  <a:latin typeface="Arial"/>
                </a:rPr>
                <a:t>1 = CO address CO slightly ,  2 = moderately   3 = substan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 startAt="7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delivery/teaching method to ensure the student’s attainment of the PO – PBL, co-operative learning, capstone project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548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ple Delivery Structur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0" y="746280"/>
          <a:ext cx="9144000" cy="61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46280"/>
                    <a:ext cx="914400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819680" y="5791320"/>
            <a:ext cx="371520" cy="2966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219400" y="4106880"/>
            <a:ext cx="380880" cy="1981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086280" y="5181480"/>
            <a:ext cx="352080" cy="906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952800" y="5562720"/>
            <a:ext cx="399960" cy="5252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43160" y="2743200"/>
            <a:ext cx="409320" cy="992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343160" y="3735360"/>
            <a:ext cx="409320" cy="23526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19400" y="2743200"/>
            <a:ext cx="38088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086280" y="2743200"/>
            <a:ext cx="352080" cy="243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2800" y="2743200"/>
            <a:ext cx="399960" cy="2819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19680" y="2743200"/>
            <a:ext cx="371520" cy="3048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752480" y="3733920"/>
            <a:ext cx="333360" cy="23619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752480" y="2743200"/>
            <a:ext cx="333360" cy="9907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590920" y="4191120"/>
            <a:ext cx="361800" cy="19047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2743200"/>
            <a:ext cx="361800" cy="14479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4495680"/>
            <a:ext cx="390600" cy="1600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43400" y="4876920"/>
            <a:ext cx="343080" cy="12189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181480" y="5257800"/>
            <a:ext cx="37152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29000" y="2744640"/>
            <a:ext cx="390600" cy="17510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343400" y="2744640"/>
            <a:ext cx="343080" cy="2132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181480" y="2744640"/>
            <a:ext cx="371520" cy="251316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791240" y="4352760"/>
            <a:ext cx="618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9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800600" y="5850000"/>
            <a:ext cx="6192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1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52800" y="4122720"/>
            <a:ext cx="619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8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52800" y="569592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2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5468760"/>
            <a:ext cx="6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3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038400" y="386712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7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00320" y="340992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5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00320" y="516240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5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295280" y="302904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3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295280" y="4724280"/>
            <a:ext cx="619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7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53160" y="4829040"/>
            <a:ext cx="247680" cy="2476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753160" y="5343480"/>
            <a:ext cx="247680" cy="24912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00840" y="5219640"/>
            <a:ext cx="12380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Palatino"/>
              </a:rPr>
              <a:t>Psychomotoric methodology</a:t>
            </a:r>
            <a:r>
              <a:rPr b="0" lang="en-US" sz="1200" spc="-1" strike="noStrike">
                <a:solidFill>
                  <a:srgbClr val="ffffff"/>
                </a:solidFill>
                <a:latin typeface="Palatino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000840" y="4705200"/>
            <a:ext cx="12380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Palatino"/>
              </a:rPr>
              <a:t>Cognitive method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343160" y="6181560"/>
            <a:ext cx="618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Palatino"/>
              </a:rPr>
              <a:t>CE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085840" y="6181560"/>
            <a:ext cx="866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Palatino"/>
              </a:rPr>
              <a:t>DIPLO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76560" y="6181560"/>
            <a:ext cx="743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Palatino"/>
              </a:rPr>
              <a:t>DEGRE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19600" y="6181560"/>
            <a:ext cx="866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Palatino"/>
              </a:rPr>
              <a:t>MAS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809960" y="6181560"/>
            <a:ext cx="743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Palatino"/>
              </a:rPr>
              <a:t>Ph.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095800" y="3886200"/>
            <a:ext cx="619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7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095800" y="548640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Palatino"/>
              </a:rPr>
              <a:t>3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267080" y="3657600"/>
            <a:ext cx="619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6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267080" y="533412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Palatino"/>
              </a:rPr>
              <a:t>4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419640" y="5181480"/>
            <a:ext cx="618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Palatino"/>
              </a:rPr>
              <a:t>5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19640" y="3429000"/>
            <a:ext cx="618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5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581200" y="327672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4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581200" y="4952880"/>
            <a:ext cx="619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Palatino"/>
              </a:rPr>
              <a:t>6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676520" y="3048120"/>
            <a:ext cx="618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Palatino"/>
              </a:rPr>
              <a:t>3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676520" y="4705200"/>
            <a:ext cx="618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Palatino"/>
              </a:rPr>
              <a:t>70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810400" y="2762280"/>
            <a:ext cx="247680" cy="247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10400" y="3438360"/>
            <a:ext cx="247680" cy="2476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58080" y="3390840"/>
            <a:ext cx="1114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Palatino"/>
              </a:rPr>
              <a:t>Output</a:t>
            </a:r>
            <a:r>
              <a:rPr b="1" i="1" lang="en-US" sz="1000" spc="-1" strike="noStrike">
                <a:solidFill>
                  <a:srgbClr val="ffffff"/>
                </a:solidFill>
                <a:latin typeface="Palatino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Palatino"/>
              </a:rPr>
              <a:t>Psycomotoric abili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058080" y="2705040"/>
            <a:ext cx="1114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Palatino"/>
              </a:rPr>
              <a:t>Output</a:t>
            </a:r>
            <a:r>
              <a:rPr b="1" i="1" lang="en-US" sz="1000" spc="-1" strike="noStrike">
                <a:solidFill>
                  <a:srgbClr val="ffffff"/>
                </a:solidFill>
                <a:latin typeface="Palatino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Palatino"/>
              </a:rPr>
              <a:t>Cognitif abili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33200" y="6324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XPECTED OUTPUT VS DELIVERY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udents Worklo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ntent as well as the delivery method contribute to students worklo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member, students available time in a week is 54 hours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61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-81360" y="0"/>
            <a:ext cx="9296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ximum Number of Subject per Semeste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so, remember 1 credit = 40 hours student learning time per semester of 14 wee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fore, 1 credit = 40/14 = 2.86 or about 3 hours per we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means, humanly possible credit per week = 54/3 = 18 cred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any subjects of 3 credits eac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/3 = </a:t>
            </a: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6 subj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6840" y="26668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 startAt="8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instruments and methods to be used in assessing the student’s attainment of the PO (known as Outcome Indicators  by Felde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Arial"/>
              <a:buAutoNum type="arabicPeriod" startAt="8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 instruments and methods to be used in assessing the graduates attainment of the PE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619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76320" y="184320"/>
            <a:ext cx="9067680" cy="63817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438280" y="990720"/>
            <a:ext cx="5029200" cy="1904760"/>
          </a:xfrm>
          <a:custGeom>
            <a:avLst/>
            <a:gdLst/>
            <a:ahLst/>
            <a:rect l="l" t="t" r="r" b="b"/>
            <a:pathLst>
              <a:path w="3464" h="1394">
                <a:moveTo>
                  <a:pt x="57" y="594"/>
                </a:moveTo>
                <a:cubicBezTo>
                  <a:pt x="85" y="511"/>
                  <a:pt x="139" y="450"/>
                  <a:pt x="194" y="384"/>
                </a:cubicBezTo>
                <a:cubicBezTo>
                  <a:pt x="262" y="302"/>
                  <a:pt x="324" y="190"/>
                  <a:pt x="432" y="155"/>
                </a:cubicBezTo>
                <a:cubicBezTo>
                  <a:pt x="533" y="79"/>
                  <a:pt x="648" y="73"/>
                  <a:pt x="770" y="64"/>
                </a:cubicBezTo>
                <a:cubicBezTo>
                  <a:pt x="868" y="33"/>
                  <a:pt x="970" y="44"/>
                  <a:pt x="1072" y="27"/>
                </a:cubicBezTo>
                <a:cubicBezTo>
                  <a:pt x="1224" y="2"/>
                  <a:pt x="1145" y="12"/>
                  <a:pt x="1310" y="0"/>
                </a:cubicBezTo>
                <a:cubicBezTo>
                  <a:pt x="1597" y="6"/>
                  <a:pt x="1861" y="7"/>
                  <a:pt x="2142" y="46"/>
                </a:cubicBezTo>
                <a:cubicBezTo>
                  <a:pt x="2271" y="125"/>
                  <a:pt x="2413" y="137"/>
                  <a:pt x="2562" y="146"/>
                </a:cubicBezTo>
                <a:cubicBezTo>
                  <a:pt x="2601" y="159"/>
                  <a:pt x="2624" y="188"/>
                  <a:pt x="2663" y="201"/>
                </a:cubicBezTo>
                <a:cubicBezTo>
                  <a:pt x="2675" y="210"/>
                  <a:pt x="2688" y="217"/>
                  <a:pt x="2699" y="228"/>
                </a:cubicBezTo>
                <a:cubicBezTo>
                  <a:pt x="2710" y="239"/>
                  <a:pt x="2715" y="255"/>
                  <a:pt x="2727" y="265"/>
                </a:cubicBezTo>
                <a:cubicBezTo>
                  <a:pt x="2770" y="304"/>
                  <a:pt x="2830" y="318"/>
                  <a:pt x="2873" y="356"/>
                </a:cubicBezTo>
                <a:cubicBezTo>
                  <a:pt x="2946" y="420"/>
                  <a:pt x="2891" y="384"/>
                  <a:pt x="2955" y="430"/>
                </a:cubicBezTo>
                <a:cubicBezTo>
                  <a:pt x="2995" y="459"/>
                  <a:pt x="3048" y="469"/>
                  <a:pt x="3083" y="503"/>
                </a:cubicBezTo>
                <a:cubicBezTo>
                  <a:pt x="3125" y="544"/>
                  <a:pt x="3173" y="580"/>
                  <a:pt x="3230" y="594"/>
                </a:cubicBezTo>
                <a:cubicBezTo>
                  <a:pt x="3262" y="627"/>
                  <a:pt x="3295" y="652"/>
                  <a:pt x="3339" y="667"/>
                </a:cubicBezTo>
                <a:cubicBezTo>
                  <a:pt x="3357" y="723"/>
                  <a:pt x="3387" y="769"/>
                  <a:pt x="3440" y="795"/>
                </a:cubicBezTo>
                <a:cubicBezTo>
                  <a:pt x="3464" y="917"/>
                  <a:pt x="3423" y="990"/>
                  <a:pt x="3348" y="1079"/>
                </a:cubicBezTo>
                <a:cubicBezTo>
                  <a:pt x="3315" y="1118"/>
                  <a:pt x="3285" y="1162"/>
                  <a:pt x="3239" y="1188"/>
                </a:cubicBezTo>
                <a:cubicBezTo>
                  <a:pt x="3210" y="1204"/>
                  <a:pt x="3176" y="1209"/>
                  <a:pt x="3147" y="1225"/>
                </a:cubicBezTo>
                <a:cubicBezTo>
                  <a:pt x="3087" y="1258"/>
                  <a:pt x="3005" y="1301"/>
                  <a:pt x="2937" y="1316"/>
                </a:cubicBezTo>
                <a:cubicBezTo>
                  <a:pt x="2790" y="1348"/>
                  <a:pt x="2819" y="1342"/>
                  <a:pt x="2690" y="1353"/>
                </a:cubicBezTo>
                <a:cubicBezTo>
                  <a:pt x="2503" y="1394"/>
                  <a:pt x="2714" y="1357"/>
                  <a:pt x="2370" y="1344"/>
                </a:cubicBezTo>
                <a:cubicBezTo>
                  <a:pt x="2105" y="1334"/>
                  <a:pt x="1840" y="1358"/>
                  <a:pt x="1575" y="1362"/>
                </a:cubicBezTo>
                <a:cubicBezTo>
                  <a:pt x="1414" y="1349"/>
                  <a:pt x="1261" y="1324"/>
                  <a:pt x="1099" y="1316"/>
                </a:cubicBezTo>
                <a:cubicBezTo>
                  <a:pt x="1040" y="1310"/>
                  <a:pt x="993" y="1298"/>
                  <a:pt x="935" y="1289"/>
                </a:cubicBezTo>
                <a:cubicBezTo>
                  <a:pt x="878" y="1265"/>
                  <a:pt x="839" y="1244"/>
                  <a:pt x="779" y="1234"/>
                </a:cubicBezTo>
                <a:cubicBezTo>
                  <a:pt x="733" y="1219"/>
                  <a:pt x="689" y="1209"/>
                  <a:pt x="642" y="1198"/>
                </a:cubicBezTo>
                <a:cubicBezTo>
                  <a:pt x="557" y="1138"/>
                  <a:pt x="680" y="1220"/>
                  <a:pt x="578" y="1170"/>
                </a:cubicBezTo>
                <a:cubicBezTo>
                  <a:pt x="461" y="1113"/>
                  <a:pt x="573" y="1148"/>
                  <a:pt x="487" y="1124"/>
                </a:cubicBezTo>
                <a:cubicBezTo>
                  <a:pt x="443" y="1092"/>
                  <a:pt x="392" y="1068"/>
                  <a:pt x="340" y="1051"/>
                </a:cubicBezTo>
                <a:cubicBezTo>
                  <a:pt x="278" y="1010"/>
                  <a:pt x="210" y="974"/>
                  <a:pt x="139" y="951"/>
                </a:cubicBezTo>
                <a:cubicBezTo>
                  <a:pt x="86" y="913"/>
                  <a:pt x="38" y="885"/>
                  <a:pt x="2" y="832"/>
                </a:cubicBezTo>
                <a:cubicBezTo>
                  <a:pt x="13" y="712"/>
                  <a:pt x="0" y="763"/>
                  <a:pt x="30" y="676"/>
                </a:cubicBezTo>
                <a:cubicBezTo>
                  <a:pt x="35" y="661"/>
                  <a:pt x="61" y="665"/>
                  <a:pt x="75" y="658"/>
                </a:cubicBezTo>
              </a:path>
            </a:pathLst>
          </a:custGeom>
          <a:noFill/>
          <a:ln cap="sq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828800" y="2895480"/>
            <a:ext cx="5538960" cy="3243240"/>
          </a:xfrm>
          <a:custGeom>
            <a:avLst/>
            <a:gdLst/>
            <a:ahLst/>
            <a:rect l="l" t="t" r="r" b="b"/>
            <a:pathLst>
              <a:path w="3454" h="1903">
                <a:moveTo>
                  <a:pt x="120" y="75"/>
                </a:moveTo>
                <a:cubicBezTo>
                  <a:pt x="103" y="144"/>
                  <a:pt x="80" y="190"/>
                  <a:pt x="38" y="249"/>
                </a:cubicBezTo>
                <a:cubicBezTo>
                  <a:pt x="16" y="339"/>
                  <a:pt x="9" y="411"/>
                  <a:pt x="2" y="505"/>
                </a:cubicBezTo>
                <a:cubicBezTo>
                  <a:pt x="8" y="586"/>
                  <a:pt x="0" y="703"/>
                  <a:pt x="38" y="779"/>
                </a:cubicBezTo>
                <a:cubicBezTo>
                  <a:pt x="44" y="791"/>
                  <a:pt x="59" y="795"/>
                  <a:pt x="66" y="806"/>
                </a:cubicBezTo>
                <a:cubicBezTo>
                  <a:pt x="158" y="937"/>
                  <a:pt x="251" y="1047"/>
                  <a:pt x="367" y="1154"/>
                </a:cubicBezTo>
                <a:cubicBezTo>
                  <a:pt x="439" y="1220"/>
                  <a:pt x="430" y="1183"/>
                  <a:pt x="514" y="1245"/>
                </a:cubicBezTo>
                <a:cubicBezTo>
                  <a:pt x="660" y="1353"/>
                  <a:pt x="483" y="1258"/>
                  <a:pt x="623" y="1327"/>
                </a:cubicBezTo>
                <a:cubicBezTo>
                  <a:pt x="775" y="1479"/>
                  <a:pt x="833" y="1531"/>
                  <a:pt x="1026" y="1638"/>
                </a:cubicBezTo>
                <a:cubicBezTo>
                  <a:pt x="1059" y="1656"/>
                  <a:pt x="1232" y="1692"/>
                  <a:pt x="1272" y="1702"/>
                </a:cubicBezTo>
                <a:cubicBezTo>
                  <a:pt x="1309" y="1711"/>
                  <a:pt x="1345" y="1725"/>
                  <a:pt x="1382" y="1730"/>
                </a:cubicBezTo>
                <a:cubicBezTo>
                  <a:pt x="1452" y="1740"/>
                  <a:pt x="1592" y="1748"/>
                  <a:pt x="1592" y="1748"/>
                </a:cubicBezTo>
                <a:cubicBezTo>
                  <a:pt x="1650" y="1769"/>
                  <a:pt x="1708" y="1791"/>
                  <a:pt x="1766" y="1812"/>
                </a:cubicBezTo>
                <a:cubicBezTo>
                  <a:pt x="1825" y="1834"/>
                  <a:pt x="2090" y="1844"/>
                  <a:pt x="2168" y="1849"/>
                </a:cubicBezTo>
                <a:cubicBezTo>
                  <a:pt x="2250" y="1854"/>
                  <a:pt x="2415" y="1867"/>
                  <a:pt x="2415" y="1867"/>
                </a:cubicBezTo>
                <a:cubicBezTo>
                  <a:pt x="2478" y="1887"/>
                  <a:pt x="2550" y="1890"/>
                  <a:pt x="2616" y="1903"/>
                </a:cubicBezTo>
                <a:cubicBezTo>
                  <a:pt x="2747" y="1900"/>
                  <a:pt x="2879" y="1899"/>
                  <a:pt x="3010" y="1894"/>
                </a:cubicBezTo>
                <a:cubicBezTo>
                  <a:pt x="3048" y="1892"/>
                  <a:pt x="3052" y="1879"/>
                  <a:pt x="3083" y="1858"/>
                </a:cubicBezTo>
                <a:cubicBezTo>
                  <a:pt x="3128" y="1828"/>
                  <a:pt x="3173" y="1795"/>
                  <a:pt x="3211" y="1757"/>
                </a:cubicBezTo>
                <a:cubicBezTo>
                  <a:pt x="3247" y="1721"/>
                  <a:pt x="3266" y="1648"/>
                  <a:pt x="3302" y="1602"/>
                </a:cubicBezTo>
                <a:cubicBezTo>
                  <a:pt x="3317" y="1563"/>
                  <a:pt x="3329" y="1540"/>
                  <a:pt x="3357" y="1510"/>
                </a:cubicBezTo>
                <a:cubicBezTo>
                  <a:pt x="3367" y="1459"/>
                  <a:pt x="3371" y="1442"/>
                  <a:pt x="3403" y="1401"/>
                </a:cubicBezTo>
                <a:cubicBezTo>
                  <a:pt x="3422" y="1343"/>
                  <a:pt x="3427" y="1287"/>
                  <a:pt x="3439" y="1227"/>
                </a:cubicBezTo>
                <a:cubicBezTo>
                  <a:pt x="3448" y="1073"/>
                  <a:pt x="3454" y="1100"/>
                  <a:pt x="3439" y="971"/>
                </a:cubicBezTo>
                <a:cubicBezTo>
                  <a:pt x="3431" y="906"/>
                  <a:pt x="3426" y="906"/>
                  <a:pt x="3403" y="834"/>
                </a:cubicBezTo>
                <a:cubicBezTo>
                  <a:pt x="3400" y="825"/>
                  <a:pt x="3394" y="806"/>
                  <a:pt x="3394" y="806"/>
                </a:cubicBezTo>
                <a:cubicBezTo>
                  <a:pt x="3378" y="690"/>
                  <a:pt x="3324" y="538"/>
                  <a:pt x="3256" y="441"/>
                </a:cubicBezTo>
                <a:cubicBezTo>
                  <a:pt x="3236" y="357"/>
                  <a:pt x="3121" y="232"/>
                  <a:pt x="3037" y="212"/>
                </a:cubicBezTo>
                <a:cubicBezTo>
                  <a:pt x="2995" y="177"/>
                  <a:pt x="2966" y="153"/>
                  <a:pt x="2918" y="130"/>
                </a:cubicBezTo>
                <a:cubicBezTo>
                  <a:pt x="2874" y="84"/>
                  <a:pt x="2820" y="68"/>
                  <a:pt x="2763" y="47"/>
                </a:cubicBezTo>
                <a:cubicBezTo>
                  <a:pt x="2474" y="53"/>
                  <a:pt x="2206" y="66"/>
                  <a:pt x="1922" y="84"/>
                </a:cubicBezTo>
                <a:cubicBezTo>
                  <a:pt x="1812" y="111"/>
                  <a:pt x="1687" y="84"/>
                  <a:pt x="1574" y="75"/>
                </a:cubicBezTo>
                <a:cubicBezTo>
                  <a:pt x="1490" y="47"/>
                  <a:pt x="1376" y="53"/>
                  <a:pt x="1291" y="47"/>
                </a:cubicBezTo>
                <a:cubicBezTo>
                  <a:pt x="1218" y="42"/>
                  <a:pt x="1071" y="29"/>
                  <a:pt x="1071" y="29"/>
                </a:cubicBezTo>
                <a:cubicBezTo>
                  <a:pt x="983" y="0"/>
                  <a:pt x="912" y="9"/>
                  <a:pt x="824" y="11"/>
                </a:cubicBezTo>
                <a:cubicBezTo>
                  <a:pt x="593" y="16"/>
                  <a:pt x="361" y="17"/>
                  <a:pt x="130" y="20"/>
                </a:cubicBezTo>
                <a:cubicBezTo>
                  <a:pt x="109" y="40"/>
                  <a:pt x="82" y="56"/>
                  <a:pt x="120" y="75"/>
                </a:cubicBezTo>
                <a:close/>
              </a:path>
            </a:pathLst>
          </a:custGeom>
          <a:noFill/>
          <a:ln cap="sq"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towards implementing OBE in curriculum desig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6840" y="26668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AutoNum type="arabicPeriod" startAt="9"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erformance targets, i.e. the target criteria for the Outcome Indicato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5520" indent="-536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. the (average score, score earned by at least 80% of) the programme graduates on the (capstone design report, portfolio evaluation) must be at least 75/1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55520" indent="-536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. the (median rating for, rating earned by at least 80% of) the programme graduates on the (self-rating sheet, peer rating sheet, senior survey, alumni survey, employer survey, final oral presentation) must be at least (75/100, 4.o 0n a Likert scale, “Very good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627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256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ntinuous Quality Improvement (CQI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509400" y="25905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ensure CQI of programme (which is mandatory in OBE), if the performance target is not met, track which component/s in the course (content, delivery, assessment methods, etc.), and try to improve or change where necessa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631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38280" y="914400"/>
            <a:ext cx="449604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The heart of OBE is 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256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ntinuous Quality Improvement (CQI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eps might be taken at the programme course levels to raise the level of achievement of the outcomes (PO)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63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28600" y="27432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0" y="1295280"/>
            <a:ext cx="9199440" cy="5562720"/>
            <a:chOff x="0" y="1295280"/>
            <a:chExt cx="9199440" cy="5562720"/>
          </a:xfrm>
        </p:grpSpPr>
        <p:sp>
          <p:nvSpPr>
            <p:cNvPr id="638" name=""/>
            <p:cNvSpPr/>
            <p:nvPr/>
          </p:nvSpPr>
          <p:spPr>
            <a:xfrm>
              <a:off x="0" y="1295280"/>
              <a:ext cx="9144000" cy="5562720"/>
            </a:xfrm>
            <a:prstGeom prst="rect">
              <a:avLst/>
            </a:prstGeom>
            <a:solidFill>
              <a:srgbClr val="0000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2666880" y="1371600"/>
              <a:ext cx="3809880" cy="685800"/>
              <a:chOff x="2666880" y="1371600"/>
              <a:chExt cx="38098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2666880" y="1371600"/>
                <a:ext cx="3809880" cy="685800"/>
              </a:xfrm>
              <a:prstGeom prst="rect">
                <a:avLst/>
              </a:prstGeom>
              <a:solidFill>
                <a:srgbClr val="00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047760" y="1524240"/>
                <a:ext cx="312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INSTITUTIONAL MISS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228600" y="1981080"/>
              <a:ext cx="1676520" cy="68580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0880" y="205740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ducational Objec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28600" y="3048120"/>
              <a:ext cx="1676520" cy="761760"/>
            </a:xfrm>
            <a:prstGeom prst="flowChartAlternateProcess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7200" y="31240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ssess &amp; Evalu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7200" y="4267080"/>
              <a:ext cx="1523880" cy="685800"/>
            </a:xfrm>
            <a:prstGeom prst="octagon">
              <a:avLst>
                <a:gd name="adj" fmla="val 29287"/>
              </a:avLst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7200" y="44197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onstituen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33720" y="5029200"/>
              <a:ext cx="2438280" cy="1523880"/>
            </a:xfrm>
            <a:prstGeom prst="ellipse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438280" y="5334120"/>
              <a:ext cx="213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valuation:  Interpretation of Evidence &amp; Da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181480" y="5029200"/>
              <a:ext cx="2743200" cy="1600200"/>
            </a:xfrm>
            <a:prstGeom prst="ellipse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562720" y="525780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ssessment:  Collection &amp; Analysis of Evidence &amp; Da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477120" y="3809880"/>
              <a:ext cx="2666880" cy="7621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53080" y="38862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gramme Learning Practices/Strateg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53080" y="2590920"/>
              <a:ext cx="2590920" cy="838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70572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asurable Performance Criter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048120" y="2590920"/>
              <a:ext cx="2895480" cy="990360"/>
            </a:xfrm>
            <a:prstGeom prst="ellipse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29000" y="28195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rogramme Outcom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95480" y="4114800"/>
              <a:ext cx="3048120" cy="68580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4191120"/>
              <a:ext cx="28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eedback for Continuous Improve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905120" y="1676520"/>
              <a:ext cx="761760" cy="4572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572000" y="1981080"/>
              <a:ext cx="0" cy="6098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352680" y="4800240"/>
              <a:ext cx="685800" cy="228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5029200" y="4800240"/>
              <a:ext cx="914400" cy="3049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5943600" y="4191120"/>
              <a:ext cx="609480" cy="30456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943600" y="3352320"/>
              <a:ext cx="685800" cy="8384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4495680" y="3504960"/>
              <a:ext cx="0" cy="609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1981080" y="4572000"/>
              <a:ext cx="99072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1066680" y="2514240"/>
              <a:ext cx="0" cy="609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66680" y="3809880"/>
              <a:ext cx="0" cy="4572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1905120" y="3124080"/>
              <a:ext cx="1143000" cy="1526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57800" y="2286000"/>
              <a:ext cx="1600200" cy="38088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208"/>
                  </a:moveTo>
                  <a:cubicBezTo>
                    <a:pt x="72" y="152"/>
                    <a:pt x="144" y="96"/>
                    <a:pt x="240" y="64"/>
                  </a:cubicBezTo>
                  <a:cubicBezTo>
                    <a:pt x="336" y="32"/>
                    <a:pt x="456" y="0"/>
                    <a:pt x="576" y="16"/>
                  </a:cubicBezTo>
                  <a:cubicBezTo>
                    <a:pt x="696" y="32"/>
                    <a:pt x="828" y="96"/>
                    <a:pt x="960" y="16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2509800">
              <a:off x="8026560" y="3231720"/>
              <a:ext cx="1085760" cy="49680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208"/>
                  </a:moveTo>
                  <a:cubicBezTo>
                    <a:pt x="72" y="152"/>
                    <a:pt x="144" y="96"/>
                    <a:pt x="240" y="64"/>
                  </a:cubicBezTo>
                  <a:cubicBezTo>
                    <a:pt x="336" y="32"/>
                    <a:pt x="456" y="0"/>
                    <a:pt x="576" y="16"/>
                  </a:cubicBezTo>
                  <a:cubicBezTo>
                    <a:pt x="696" y="32"/>
                    <a:pt x="828" y="96"/>
                    <a:pt x="960" y="16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572000">
              <a:off x="7681680" y="5074920"/>
              <a:ext cx="1676160" cy="45720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208"/>
                  </a:moveTo>
                  <a:cubicBezTo>
                    <a:pt x="72" y="152"/>
                    <a:pt x="144" y="96"/>
                    <a:pt x="240" y="64"/>
                  </a:cubicBezTo>
                  <a:cubicBezTo>
                    <a:pt x="336" y="32"/>
                    <a:pt x="456" y="0"/>
                    <a:pt x="576" y="16"/>
                  </a:cubicBezTo>
                  <a:cubicBezTo>
                    <a:pt x="696" y="32"/>
                    <a:pt x="828" y="96"/>
                    <a:pt x="960" y="16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3885480" y="6248520"/>
              <a:ext cx="1600200" cy="380880"/>
            </a:xfrm>
            <a:custGeom>
              <a:avLst/>
              <a:gdLst/>
              <a:ahLst/>
              <a:rect l="l" t="t" r="r" b="b"/>
              <a:pathLst>
                <a:path w="960" h="208">
                  <a:moveTo>
                    <a:pt x="0" y="208"/>
                  </a:moveTo>
                  <a:cubicBezTo>
                    <a:pt x="72" y="152"/>
                    <a:pt x="144" y="96"/>
                    <a:pt x="240" y="64"/>
                  </a:cubicBezTo>
                  <a:cubicBezTo>
                    <a:pt x="336" y="32"/>
                    <a:pt x="456" y="0"/>
                    <a:pt x="576" y="16"/>
                  </a:cubicBezTo>
                  <a:cubicBezTo>
                    <a:pt x="696" y="32"/>
                    <a:pt x="828" y="96"/>
                    <a:pt x="960" y="16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05120" y="2362320"/>
              <a:ext cx="1447560" cy="3808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1828800" y="304920"/>
            <a:ext cx="5757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SESSMENT OF CQ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9628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ple Programme Educational Objectiv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-152280" y="76176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802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Produce graduates who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are competent with strong understanding of fundamental engineering knowledge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ave professional attitudes and ethics necessary in fulfilling his/her responsibilities towards the Creator, client and the society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will uphold the Malay Language as a language of knowledge in the engineering field and at the same time has the ability to communicate in English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is able to adapt him/herself to the international/global work environment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is able to lead an organisation based on experience and knowledge of important current issues in engineering.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2440" indent="-4320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is able to conduct research in his/her own organisation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28800" y="65530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aculty of Engineering U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684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5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ple Programme Outco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762120"/>
            <a:ext cx="9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graduate will demonstrate the following by the time of gradu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1179360"/>
            <a:ext cx="86868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apply knowledge of mathematics, science, and engine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design and conduct experiments, as well as to analyse and interpret data in relation to research 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design a system, component, or process to meet desired needs within realistic constra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function on multi-disciplinary te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identify, formulate and solve engineering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use the techniques, skills, and engineering tools necessary for engineering 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understanding of professional and ethical respons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communicate effectiv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understanding of the impact of engineering solutions in a global, economic, environmental, and societal 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recognise the need to undertake life-long 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ttain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nowledge of contemporary issu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691" name=""/>
          <p:cNvSpPr/>
          <p:nvPr/>
        </p:nvSpPr>
        <p:spPr>
          <a:xfrm>
            <a:off x="6705720" y="6553080"/>
            <a:ext cx="2438280" cy="304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b60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5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Illustrative Course Outco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52280" y="990720"/>
            <a:ext cx="89154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P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 ability to design and conduct experiments, as well as to analyse and interpret data in relation to research 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Related 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ent will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93920" indent="-173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an experiment to (insert one or more goals or functions) and report the results (insert specifications regarding the required scope and structure of the repor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93920" indent="-173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 (or simulate) an experiment to (insert specifications about the goals of the experiment) and report the results (insert specifications regarding the scope and structure of the repor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0" y="602784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697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5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Illustrative Course Outco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2280" y="1066680"/>
            <a:ext cx="8915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P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 understanding of professional and ethical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Related 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job-related scenario that requires a decision with ethical implications, the student will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possible courses of action and discuss the pros and cons of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e on the best course of action and justify the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0" y="602784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703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5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Illustrative Course Outco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52280" y="1066680"/>
            <a:ext cx="89154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P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 ability to function on multi-disciplinary t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Related 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33480" indent="-1833480">
              <a:spcBef>
                <a:spcPts val="1500"/>
              </a:spcBef>
              <a:tabLst>
                <a:tab algn="l" pos="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ent will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the stages of team development and give examples of team behaviours that are characteristic of each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ise effective strategies for dealing with a variety of interpersonal and communication problems that commonly arise in teamwork, choose the best of several given strategies for a specified problem, and justify the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4638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  <a:tab algn="l" pos="3886200"/>
                <a:tab algn="l" pos="4000680"/>
                <a:tab algn="l" pos="4114800"/>
                <a:tab algn="l" pos="4229280"/>
                <a:tab algn="l" pos="4343400"/>
                <a:tab algn="l" pos="4457880"/>
                <a:tab algn="l" pos="4572000"/>
                <a:tab algn="l" pos="4686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0" y="602784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709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b60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914400"/>
            <a:ext cx="8305920" cy="80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rof. Bradle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rof. Fletc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B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Bahagian Jaminan Kualiti, Kementerian Pengajian Tingg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L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of. Mokhtar Abdullah, Ad-Macs Corp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of. Ir. Dr. Hassan Basr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of. Madya Ir. Dr. Riza Atiq Abdullah O.K. Rah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38560"/>
                <a:tab algn="l" pos="4676760"/>
                <a:tab algn="l" pos="7015320"/>
                <a:tab algn="l" pos="93535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713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an Hamidon,  Jun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 txBox="1"/>
          <p:nvPr/>
        </p:nvSpPr>
        <p:spPr>
          <a:xfrm>
            <a:off x="1523880" y="2057400"/>
            <a:ext cx="6172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NK YOU</a:t>
            </a:r>
            <a:endParaRPr b="1" lang="en-US" sz="40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05120" y="2362320"/>
            <a:ext cx="761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4880" y="4876920"/>
            <a:ext cx="83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E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729400"/>
            <a:ext cx="6858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28720" y="5634000"/>
            <a:ext cx="6858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71760" y="3029040"/>
            <a:ext cx="8380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91480" y="3076560"/>
            <a:ext cx="8380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91360" y="2662200"/>
            <a:ext cx="20574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Times New Roman"/>
              </a:rPr>
              <a:t>Stakehol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71600" y="1976400"/>
            <a:ext cx="8380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2176560"/>
            <a:ext cx="8384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5791320"/>
            <a:ext cx="6858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5729400"/>
            <a:ext cx="17528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191760" cy="7315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705720" y="685800"/>
            <a:ext cx="99036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13:58:43Z</dcterms:created>
  <dc:creator>faizal</dc:creator>
  <dc:description/>
  <dc:language>en-US</dc:language>
  <cp:lastModifiedBy>YAZLINA SADURI</cp:lastModifiedBy>
  <dcterms:modified xsi:type="dcterms:W3CDTF">2005-06-22T04:40:17Z</dcterms:modified>
  <cp:revision>960</cp:revision>
  <dc:subject/>
  <dc:title>The Study on Strength Tests for High Strength Concrete Used for Cable Stayed Bridges in Malaysia </dc:title>
</cp:coreProperties>
</file>