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E616C3-DB50-4D2B-AD6B-D87639A10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4FAD00-8F85-4333-B502-238EBE4E0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2AFE-2F92-4A40-B7D6-53A5F4DB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323C-98F3-4985-9CD8-B80E2F9C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C35A-CBFE-43B1-A1AE-D99FDB92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5278-AD7D-41E4-9AF9-52E06263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A06D-DF7F-4FB8-9038-6A60CFD1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9B16-DEF8-45C5-A5DF-C5B675FB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4C99-CFF2-4326-BB69-5BC314F0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0CA7-04F0-42EC-8411-FB26761F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9BF9-65D3-4742-8564-6A2E0FBF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1A8C-EF1A-497C-A2EF-098B70CE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4F26-B75E-42DB-B714-26FE3D09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4054-31D0-47F0-96C6-BD4CD784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354C-0527-4B41-8253-14807E06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CC14-5F66-4C8A-AB2F-F32759E9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9787-FFC9-4E53-B2EF-56EF0E84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2DF1-5AD4-4970-AFA1-E31CA09B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0889-021D-4AEE-9C21-C35E19B9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4892-A22A-48AA-AE5C-7D7B1D95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F2F5-C47C-4505-B660-90F6151C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70AA-746B-443C-A85C-68E12B7E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94A6-FFB7-4705-B72C-13C28585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8414-B6CC-4B23-99BA-6D36CCB6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4EFF-359F-489A-BA9F-2F035551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9C49-64A7-4501-90D7-A849C937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30D7-536F-4F61-84D3-440E5F96CF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4E1C-48EC-469A-9AB9-9C1327A93D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km.my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hyperlink" Target="http://www.ukm.my/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33520" y="3733920"/>
            <a:ext cx="8001000" cy="274320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431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5b5b89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DESIGNING COURSE SYLLABUS BASED ON OUTCOM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838080" y="3885840"/>
            <a:ext cx="7391520" cy="243828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Assoc. Prof. Dr. Mohd Jailani Mohd N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Deputy Dean (Acade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Faculty of Engineering, U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Email:  jailani@vlsi.eng.ukm.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809880" y="2209680"/>
            <a:ext cx="1143000" cy="14479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28600" y="1981080"/>
            <a:ext cx="8686800" cy="426744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Behavioral</a:t>
            </a:r>
            <a:br>
              <a:rPr sz="4000"/>
            </a:b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Skills Outcom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3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ritten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oblem-sol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mput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ral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esent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group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terpers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4033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iti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nag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eam 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labora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28600" y="1676520"/>
            <a:ext cx="8686800" cy="419076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Types of Goals: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Affectiv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ttitudinal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ppreciation for music, literature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ppreciation of d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ligious values of i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olitical 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thical 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mmitment to lifelong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666720" y="923760"/>
            <a:ext cx="7695360" cy="5933520"/>
            <a:chOff x="666720" y="923760"/>
            <a:chExt cx="7695360" cy="5933520"/>
          </a:xfrm>
        </p:grpSpPr>
        <p:sp>
          <p:nvSpPr>
            <p:cNvPr id="603" name=""/>
            <p:cNvSpPr/>
            <p:nvPr/>
          </p:nvSpPr>
          <p:spPr>
            <a:xfrm>
              <a:off x="666720" y="923760"/>
              <a:ext cx="1720080" cy="5916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6800" y="3036600"/>
              <a:ext cx="5975280" cy="219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86800" y="5065200"/>
              <a:ext cx="5975280" cy="17748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386800" y="923760"/>
              <a:ext cx="5975280" cy="21978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666720" y="923760"/>
              <a:ext cx="7672680" cy="5933520"/>
              <a:chOff x="666720" y="923760"/>
              <a:chExt cx="7672680" cy="593352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672480" y="928800"/>
                <a:ext cx="7659360" cy="5922000"/>
                <a:chOff x="672480" y="928800"/>
                <a:chExt cx="7659360" cy="5922000"/>
              </a:xfrm>
            </p:grpSpPr>
            <p:grpSp>
              <p:nvGrpSpPr>
                <p:cNvPr id="609" name=""/>
                <p:cNvGrpSpPr/>
                <p:nvPr/>
              </p:nvGrpSpPr>
              <p:grpSpPr>
                <a:xfrm>
                  <a:off x="672480" y="928800"/>
                  <a:ext cx="1676160" cy="2181600"/>
                  <a:chOff x="672480" y="928800"/>
                  <a:chExt cx="1676160" cy="218160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761040" y="928800"/>
                    <a:ext cx="1498680" cy="218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99"/>
                        </a:solidFill>
                        <a:latin typeface="Arial"/>
                        <a:ea typeface="Times New Roman"/>
                      </a:rPr>
                      <a:t>Receiving Phenomena: Awareness, Willingness to hear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672480" y="928800"/>
                    <a:ext cx="1676160" cy="218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2349000" y="928800"/>
                  <a:ext cx="5982840" cy="2181600"/>
                  <a:chOff x="2349000" y="928800"/>
                  <a:chExt cx="5982840" cy="218160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2437560" y="928800"/>
                    <a:ext cx="5805360" cy="218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Example:  Listen to others with respect. 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Keywords: Choose, describe, follows, gives, locates, selects, uses.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349000" y="928800"/>
                    <a:ext cx="5982840" cy="2181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672480" y="3110760"/>
                  <a:ext cx="1676160" cy="1973880"/>
                  <a:chOff x="672480" y="3110760"/>
                  <a:chExt cx="1676160" cy="197388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>
                    <a:off x="761040" y="3110760"/>
                    <a:ext cx="1498680" cy="1973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99"/>
                        </a:solidFill>
                        <a:latin typeface="Arial"/>
                        <a:ea typeface="Times New Roman"/>
                      </a:rPr>
                      <a:t>Responding to Phenomena: Active participation on the part of the learners.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672480" y="3110760"/>
                    <a:ext cx="1676160" cy="1973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2349000" y="3110760"/>
                  <a:ext cx="5982840" cy="1973880"/>
                  <a:chOff x="2349000" y="3110760"/>
                  <a:chExt cx="5982840" cy="197388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>
                    <a:off x="2437560" y="3110760"/>
                    <a:ext cx="5805360" cy="1973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Example: Participates in class discussion.  Gives a presentation.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Keywords:  answers, assists, aids, presents, reads.   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349000" y="3110760"/>
                    <a:ext cx="5982840" cy="1973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672480" y="5085000"/>
                  <a:ext cx="1676160" cy="1765800"/>
                  <a:chOff x="672480" y="5085000"/>
                  <a:chExt cx="1676160" cy="17658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761040" y="5085000"/>
                    <a:ext cx="1498680" cy="176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99"/>
                        </a:solidFill>
                        <a:latin typeface="Arial"/>
                        <a:ea typeface="Times New Roman"/>
                      </a:rPr>
                      <a:t>Valuing: The worth or value  a person attaches to a particular behaviour.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672480" y="5085000"/>
                    <a:ext cx="1676160" cy="176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2349000" y="5085000"/>
                  <a:ext cx="5982840" cy="1765800"/>
                  <a:chOff x="2349000" y="5085000"/>
                  <a:chExt cx="5982840" cy="176580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>
                    <a:off x="2437560" y="5085000"/>
                    <a:ext cx="5805360" cy="176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Example:  Show ability to solve problems. 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Keywords:  completes, demonstrates, differentiates, explains.  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2349000" y="5085000"/>
                    <a:ext cx="5982840" cy="176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27" name=""/>
              <p:cNvSpPr/>
              <p:nvPr/>
            </p:nvSpPr>
            <p:spPr>
              <a:xfrm>
                <a:off x="666720" y="923760"/>
                <a:ext cx="7672680" cy="59335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609480" y="0"/>
            <a:ext cx="769644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Five major categories under Affective domain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681120" y="909720"/>
            <a:ext cx="7695360" cy="5714280"/>
            <a:chOff x="681120" y="909720"/>
            <a:chExt cx="7695360" cy="5714280"/>
          </a:xfrm>
        </p:grpSpPr>
        <p:sp>
          <p:nvSpPr>
            <p:cNvPr id="630" name=""/>
            <p:cNvSpPr/>
            <p:nvPr/>
          </p:nvSpPr>
          <p:spPr>
            <a:xfrm>
              <a:off x="681120" y="909720"/>
              <a:ext cx="1720080" cy="5697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01200" y="2944800"/>
              <a:ext cx="5975280" cy="2116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01200" y="4898160"/>
              <a:ext cx="5975280" cy="1709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01200" y="909720"/>
              <a:ext cx="5975280" cy="21164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681120" y="909720"/>
              <a:ext cx="7672680" cy="5714280"/>
              <a:chOff x="681120" y="909720"/>
              <a:chExt cx="7672680" cy="571428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686880" y="914760"/>
                <a:ext cx="7659360" cy="5703120"/>
                <a:chOff x="686880" y="914760"/>
                <a:chExt cx="7659360" cy="570312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686880" y="914760"/>
                  <a:ext cx="1676160" cy="2100960"/>
                  <a:chOff x="686880" y="914760"/>
                  <a:chExt cx="1676160" cy="210096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775440" y="914760"/>
                    <a:ext cx="1498680" cy="2100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99"/>
                        </a:solidFill>
                        <a:latin typeface="Arial"/>
                        <a:ea typeface="Times New Roman"/>
                      </a:rPr>
                      <a:t>Organization: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99"/>
                        </a:solidFill>
                        <a:latin typeface="Arial"/>
                        <a:ea typeface="Times New Roman"/>
                      </a:rPr>
                      <a:t>Organizes values into priorities by contrasting different values.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686880" y="914760"/>
                    <a:ext cx="1676160" cy="2100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2363400" y="914760"/>
                  <a:ext cx="5982840" cy="2100960"/>
                  <a:chOff x="2363400" y="914760"/>
                  <a:chExt cx="5982840" cy="210096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>
                    <a:off x="2451960" y="914760"/>
                    <a:ext cx="5805360" cy="2100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Example:  Recognising the need for balance between freedom and responsible behaviour.  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Keywords: compares, adheres, arranges, combines, explains, formulates.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 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363400" y="914760"/>
                    <a:ext cx="5982840" cy="2100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686880" y="3016080"/>
                  <a:ext cx="1676160" cy="1900800"/>
                  <a:chOff x="686880" y="3016080"/>
                  <a:chExt cx="1676160" cy="190080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>
                    <a:off x="775440" y="3016080"/>
                    <a:ext cx="1498680" cy="190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99"/>
                        </a:solidFill>
                        <a:latin typeface="Arial"/>
                        <a:ea typeface="Times New Roman"/>
                      </a:rPr>
                      <a:t>Characterization: Has a value system that controls their behaviour and shows characteristics   of the learner.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86880" y="3016080"/>
                    <a:ext cx="1676160" cy="190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2363400" y="3016080"/>
                  <a:ext cx="5982840" cy="1900800"/>
                  <a:chOff x="2363400" y="3016080"/>
                  <a:chExt cx="5982840" cy="190080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>
                    <a:off x="2451960" y="3016080"/>
                    <a:ext cx="5805360" cy="190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Example: Shows self reliance when working independently. Cooperates in group activities. Display professional commitment to ethical practice on a daily basis. 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Keywords:  discriminates, displays, listen, solves, qualifies.   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2363400" y="3016080"/>
                    <a:ext cx="5982840" cy="190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686880" y="4917240"/>
                  <a:ext cx="1676160" cy="1700640"/>
                  <a:chOff x="686880" y="4917240"/>
                  <a:chExt cx="1676160" cy="170064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775440" y="4917240"/>
                    <a:ext cx="1498680" cy="170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686880" y="4917240"/>
                    <a:ext cx="1676160" cy="1700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2363400" y="4917240"/>
                  <a:ext cx="5982840" cy="1700640"/>
                  <a:chOff x="2363400" y="4917240"/>
                  <a:chExt cx="5982840" cy="170064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2451960" y="4917240"/>
                    <a:ext cx="5805360" cy="170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  <a:ea typeface="Times New Roman"/>
                      </a:rPr>
                      <a:t> 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2363400" y="4917240"/>
                    <a:ext cx="5982840" cy="1700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54" name=""/>
              <p:cNvSpPr/>
              <p:nvPr/>
            </p:nvSpPr>
            <p:spPr>
              <a:xfrm>
                <a:off x="681120" y="909720"/>
                <a:ext cx="7672680" cy="57142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5" name=""/>
          <p:cNvSpPr/>
          <p:nvPr/>
        </p:nvSpPr>
        <p:spPr>
          <a:xfrm>
            <a:off x="609480" y="0"/>
            <a:ext cx="769644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Five major categories under Affective domain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228600" y="1523880"/>
            <a:ext cx="8686800" cy="449604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Affective Objectiv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lated to attitudes,values, beliefs which influence behav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utcomes might include becoming sensitive to the values of others, practicing ethical behavior, and personal discipl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nnot be measured directly but inferred by observing behav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 group work, simulations, and surveys in which students report on behavior, attitudes, and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NC senior survey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652320" y="923760"/>
            <a:ext cx="7696080" cy="5714280"/>
            <a:chOff x="652320" y="923760"/>
            <a:chExt cx="7696080" cy="5714280"/>
          </a:xfrm>
        </p:grpSpPr>
        <p:sp>
          <p:nvSpPr>
            <p:cNvPr id="661" name=""/>
            <p:cNvSpPr/>
            <p:nvPr/>
          </p:nvSpPr>
          <p:spPr>
            <a:xfrm>
              <a:off x="652320" y="923760"/>
              <a:ext cx="1720440" cy="5697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72760" y="2958840"/>
              <a:ext cx="5975640" cy="2116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72760" y="4912200"/>
              <a:ext cx="5975640" cy="1709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372760" y="923760"/>
              <a:ext cx="5975640" cy="21164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652320" y="923760"/>
              <a:ext cx="7673040" cy="5714280"/>
              <a:chOff x="652320" y="923760"/>
              <a:chExt cx="7673040" cy="5714280"/>
            </a:xfrm>
          </p:grpSpPr>
          <p:grpSp>
            <p:nvGrpSpPr>
              <p:cNvPr id="666" name=""/>
              <p:cNvGrpSpPr/>
              <p:nvPr/>
            </p:nvGrpSpPr>
            <p:grpSpPr>
              <a:xfrm>
                <a:off x="658080" y="928800"/>
                <a:ext cx="7659720" cy="5703120"/>
                <a:chOff x="658080" y="928800"/>
                <a:chExt cx="7659720" cy="5703120"/>
              </a:xfrm>
            </p:grpSpPr>
            <p:grpSp>
              <p:nvGrpSpPr>
                <p:cNvPr id="667" name=""/>
                <p:cNvGrpSpPr/>
                <p:nvPr/>
              </p:nvGrpSpPr>
              <p:grpSpPr>
                <a:xfrm>
                  <a:off x="658080" y="928800"/>
                  <a:ext cx="1676160" cy="2100960"/>
                  <a:chOff x="658080" y="928800"/>
                  <a:chExt cx="1676160" cy="210096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746640" y="928800"/>
                    <a:ext cx="1498680" cy="2100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99"/>
                        </a:solidFill>
                        <a:latin typeface="Arial"/>
                        <a:ea typeface="Times New Roman"/>
                      </a:rPr>
                      <a:t>Perception: ability to use sensory cues to guide motor activity.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658080" y="928800"/>
                    <a:ext cx="1676160" cy="2100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2334600" y="928800"/>
                  <a:ext cx="5983200" cy="2100960"/>
                  <a:chOff x="2334600" y="928800"/>
                  <a:chExt cx="5983200" cy="210096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2423160" y="928800"/>
                    <a:ext cx="5805720" cy="2100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Example:  Detects non verbal communication cues. 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Keywords: Choose, describe, detects, distinguish, identifies. 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334600" y="928800"/>
                    <a:ext cx="5983200" cy="2100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658080" y="3030120"/>
                  <a:ext cx="1676160" cy="1900800"/>
                  <a:chOff x="658080" y="3030120"/>
                  <a:chExt cx="1676160" cy="190080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>
                    <a:off x="746640" y="3030120"/>
                    <a:ext cx="1498680" cy="190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99"/>
                        </a:solidFill>
                        <a:latin typeface="Arial"/>
                        <a:ea typeface="Times New Roman"/>
                      </a:rPr>
                      <a:t>Guided Response: The early stages in learning a complex skill. 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658080" y="3030120"/>
                    <a:ext cx="1676160" cy="190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6" name=""/>
                <p:cNvGrpSpPr/>
                <p:nvPr/>
              </p:nvGrpSpPr>
              <p:grpSpPr>
                <a:xfrm>
                  <a:off x="2334600" y="3030120"/>
                  <a:ext cx="5983200" cy="1900800"/>
                  <a:chOff x="2334600" y="3030120"/>
                  <a:chExt cx="5983200" cy="190080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>
                    <a:off x="2423160" y="3030120"/>
                    <a:ext cx="5805720" cy="190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Example: Performs a  mathematical equation as demonstrated by instructions to build a model. 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Keywords:  copies, traces, follows, responds.   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334600" y="3030120"/>
                    <a:ext cx="5983200" cy="190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658080" y="4931280"/>
                  <a:ext cx="1676160" cy="1700640"/>
                  <a:chOff x="658080" y="4931280"/>
                  <a:chExt cx="1676160" cy="170064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746640" y="4931280"/>
                    <a:ext cx="1498680" cy="170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99"/>
                        </a:solidFill>
                        <a:latin typeface="Arial"/>
                        <a:ea typeface="Times New Roman"/>
                      </a:rPr>
                      <a:t>Adaptation: Skills are well developed and the individual can modify movements to fit special requirements.  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658080" y="4931280"/>
                    <a:ext cx="1676160" cy="1700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2" name=""/>
                <p:cNvGrpSpPr/>
                <p:nvPr/>
              </p:nvGrpSpPr>
              <p:grpSpPr>
                <a:xfrm>
                  <a:off x="2334600" y="4931280"/>
                  <a:ext cx="5983200" cy="1700640"/>
                  <a:chOff x="2334600" y="4931280"/>
                  <a:chExt cx="5983200" cy="170064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2423160" y="4931280"/>
                    <a:ext cx="5805720" cy="170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Example:  Responds effectively to unexpected experiences.  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800000"/>
                        </a:solidFill>
                        <a:latin typeface="Arial"/>
                        <a:ea typeface="Times New Roman"/>
                      </a:rPr>
                      <a:t>Keywords:  adapts, alters, changes, rearranges.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2334600" y="4931280"/>
                    <a:ext cx="5983200" cy="1700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85" name=""/>
              <p:cNvSpPr/>
              <p:nvPr/>
            </p:nvSpPr>
            <p:spPr>
              <a:xfrm>
                <a:off x="652320" y="923760"/>
                <a:ext cx="7673040" cy="57142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6" name=""/>
          <p:cNvSpPr/>
          <p:nvPr/>
        </p:nvSpPr>
        <p:spPr>
          <a:xfrm>
            <a:off x="609480" y="0"/>
            <a:ext cx="769644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Examples of categories under Psychomotor domain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228600" y="1905120"/>
            <a:ext cx="8686800" cy="327636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Focus of the Course Sylla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urse outcomes, delivery method and  assessment method relate to programme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sulting in coherent curricul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owards achieving programme 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304920" y="1676520"/>
            <a:ext cx="8534160" cy="441936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89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5b5b89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dfdef6"/>
                </a:solidFill>
                <a:latin typeface="Arial Narrow"/>
              </a:rPr>
              <a:t>CURRICULUM 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What does it mean ?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57200" y="1600200"/>
            <a:ext cx="8458200" cy="41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Course  (the courses offered by an educational institu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 curriculum can be defined 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the planned educational experiences offered by a school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Todd  1965</a:t>
            </a: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(Todd, E. A. Curriculum Development and Instructional Planning. Nederland, TX.: Nederland Ind. School District, pg. 2.)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380880" y="1523880"/>
            <a:ext cx="8229600" cy="502920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ements of a Curriculu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62120" y="1676520"/>
            <a:ext cx="7696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urse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eaching-learning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ssessment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Evaluation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e process of defining and organising these elements into a logical pattern is known as curriculum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304920" y="0"/>
            <a:ext cx="8305560" cy="685800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457200" y="246240"/>
          <a:ext cx="7924680" cy="6259320"/>
        </p:xfrm>
        <a:graphic>
          <a:graphicData uri="http://schemas.openxmlformats.org/drawingml/2006/table">
            <a:tbl>
              <a:tblPr/>
              <a:tblGrid>
                <a:gridCol w="5486400"/>
                <a:gridCol w="2438280"/>
              </a:tblGrid>
              <a:tr h="17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Curriculum</a:t>
                      </a: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ont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Linked Outco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Fundamentals (30 credit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(Mathematics &amp; Engineering Science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Engineering core (56 credit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(Principles &amp; Applications in 9 Engineering Disciplines/Programme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,2,3,4&amp;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Skills / tools (7 credit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(Programming, graphics, workshop practice, engineering application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&amp;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9" name=""/>
          <p:cNvSpPr/>
          <p:nvPr/>
        </p:nvSpPr>
        <p:spPr>
          <a:xfrm>
            <a:off x="5105520" y="63244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aculty of Engineering UK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OUTCOMES CATEGORI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" y="1676520"/>
            <a:ext cx="8686800" cy="487656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2743200"/>
            <a:ext cx="6019920" cy="20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Underpinning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Professional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Personal Qualities / Skills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Jailani Mohd Nor,  Feb.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80880" y="304920"/>
            <a:ext cx="8305920" cy="655308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533520" y="334800"/>
          <a:ext cx="7924680" cy="6031080"/>
        </p:xfrm>
        <a:graphic>
          <a:graphicData uri="http://schemas.openxmlformats.org/drawingml/2006/table">
            <a:tbl>
              <a:tblPr/>
              <a:tblGrid>
                <a:gridCol w="5790960"/>
                <a:gridCol w="2133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Curriculum Cont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Linked Outco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  <a:ea typeface="Times New Roman"/>
                        </a:rPr>
                        <a:t>Projects &amp; Professional Practice (14 credit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3" marL="137160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Industrial Trai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3" marL="137160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Design Projec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Research Project</a:t>
                      </a: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,2,3,4,5,6,7,8,9,10,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  <a:ea typeface="Times New Roman"/>
                        </a:rPr>
                        <a:t>Non-technical (21 credit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Nationhood &amp; civilisational stud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Thinking &amp; organisational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Teknology dan Civilis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Co-curricul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English for Engine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Engineering Management I &amp; II</a:t>
                      </a: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6,7,8,9,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"/>
          <p:cNvSpPr/>
          <p:nvPr/>
        </p:nvSpPr>
        <p:spPr>
          <a:xfrm>
            <a:off x="5181480" y="62485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aculty of Engineering UK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019920"/>
            <a:ext cx="681120" cy="8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"/>
          <p:cNvGraphicFramePr/>
          <p:nvPr/>
        </p:nvGraphicFramePr>
        <p:xfrm>
          <a:off x="457200" y="914400"/>
          <a:ext cx="8686800" cy="53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686800" cy="53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62880" y="6010200"/>
            <a:ext cx="681120" cy="838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cccc">
                <a:alpha val="50000"/>
              </a:srgbClr>
            </a:outerShdw>
          </a:effectLst>
        </p:spPr>
      </p:pic>
      <p:sp>
        <p:nvSpPr>
          <p:cNvPr id="708" name=""/>
          <p:cNvSpPr/>
          <p:nvPr/>
        </p:nvSpPr>
        <p:spPr>
          <a:xfrm>
            <a:off x="38088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04920" y="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ample of Course – PO Matri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57200" y="6381720"/>
            <a:ext cx="7238880" cy="476280"/>
            <a:chOff x="457200" y="6381720"/>
            <a:chExt cx="7238880" cy="476280"/>
          </a:xfrm>
        </p:grpSpPr>
        <p:sp>
          <p:nvSpPr>
            <p:cNvPr id="711" name=""/>
            <p:cNvSpPr/>
            <p:nvPr/>
          </p:nvSpPr>
          <p:spPr>
            <a:xfrm>
              <a:off x="457200" y="6381720"/>
              <a:ext cx="7238880" cy="47628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51960" y="6401520"/>
              <a:ext cx="68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800000"/>
                  </a:solidFill>
                  <a:latin typeface="Arial"/>
                </a:rPr>
                <a:t>1 = CO address CO slightly ,  2 = moderately   3 = substan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685800" y="1523880"/>
            <a:ext cx="6629400" cy="365760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06320" y="193680"/>
            <a:ext cx="62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urriculum Design Gu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7880" y="1604880"/>
            <a:ext cx="7526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 well designed curriculum must b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olistic and cohe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cused on learn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ncouraging independence in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as links to resear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ased on feedback, evaluation and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Focus of the Course Sylla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1371600" y="1371600"/>
            <a:ext cx="6781680" cy="5257800"/>
            <a:chOff x="1371600" y="1371600"/>
            <a:chExt cx="6781680" cy="5257800"/>
          </a:xfrm>
        </p:grpSpPr>
        <p:sp>
          <p:nvSpPr>
            <p:cNvPr id="718" name=""/>
            <p:cNvSpPr/>
            <p:nvPr/>
          </p:nvSpPr>
          <p:spPr>
            <a:xfrm>
              <a:off x="1743120" y="4851360"/>
              <a:ext cx="1477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990960" y="2625840"/>
              <a:ext cx="161784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Course</a:t>
              </a:r>
              <a:br>
                <a:rPr sz="900"/>
              </a:b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Outcome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19760" y="1873080"/>
              <a:ext cx="120960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Subfield</a:t>
              </a:r>
              <a:br>
                <a:rPr sz="700"/>
              </a:b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requiremen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1"/>
            <a:srcRect l="1734" t="1847" r="2081" b="1847"/>
            <a:stretch/>
          </p:blipFill>
          <p:spPr>
            <a:xfrm>
              <a:off x="1371600" y="1371600"/>
              <a:ext cx="6781680" cy="5257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22" name=""/>
            <p:cNvSpPr/>
            <p:nvPr/>
          </p:nvSpPr>
          <p:spPr>
            <a:xfrm>
              <a:off x="3200400" y="1897200"/>
              <a:ext cx="1494000" cy="46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f0f17"/>
                  </a:solidFill>
                  <a:latin typeface="Arial"/>
                </a:rPr>
                <a:t>Programme</a:t>
              </a:r>
              <a:br>
                <a:rPr sz="1400"/>
              </a:br>
              <a:r>
                <a:rPr b="1" lang="en-US" sz="1400" spc="-1" strike="noStrike">
                  <a:solidFill>
                    <a:srgbClr val="0f0f17"/>
                  </a:solidFill>
                  <a:latin typeface="Arial"/>
                </a:rPr>
                <a:t>outcom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52880" y="1828800"/>
              <a:ext cx="1494000" cy="46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f0f17"/>
                  </a:solidFill>
                  <a:latin typeface="Arial"/>
                </a:rPr>
                <a:t>Sub-Fiel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f0f17"/>
                  </a:solidFill>
                  <a:latin typeface="Arial"/>
                </a:rPr>
                <a:t>Require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114800" y="2666880"/>
              <a:ext cx="1494000" cy="46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f0f17"/>
                  </a:solidFill>
                  <a:latin typeface="Arial"/>
                </a:rPr>
                <a:t>Cour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f0f17"/>
                  </a:solidFill>
                  <a:latin typeface="Arial"/>
                </a:rPr>
                <a:t>Outcom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752480" y="4876920"/>
              <a:ext cx="14940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f0f17"/>
                  </a:solidFill>
                  <a:latin typeface="Arial"/>
                </a:rPr>
                <a:t>Delivery 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228600" y="1143000"/>
            <a:ext cx="8686800" cy="548640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Example of a  Course Sylla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1230480"/>
            <a:ext cx="807732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Kod Kursus:          KJ4343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Nama Kursus: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Akusti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Jenis kursus: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Jabatan (Elektif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Kandungan kursu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Kursus ini memberikan pendedahan kepada pelajar mengenai bidang akustik kejuruteraan dan bagaimana menggunakan teori asas gelombang bunyi untuk menyelesaikan masalah kejuruteraan. Antara topik-topik yang akan dibincangkan termasuk: Pengenalan kepada konsep dan teori akustik, Konsep asas gelombang dalam satu dimensi, Konsep asas gelombang dalam membran (dua-dimensi), Konsep asas gelombang dalam ruang (tiga-dimensi), Kaedah Pengukuran dan pemprosesan isyarat bunyi, Kaedah pengawalan bunyi, Akustik dalaman bangunan, Kesan bunyi kepada manusia, dan Analisis bunyi sekitara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Pra-keperluan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KJ 2043 (Analisis Kompleks &amp; Persamaan Kebezaan Separa) d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KJ 4353 (Getaran Mekanik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Rujuka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L.E. Kinsler et.al., 2000, </a:t>
            </a:r>
            <a:r>
              <a:rPr b="0" i="1" lang="en-GB" sz="1600" spc="-1" strike="noStrike">
                <a:solidFill>
                  <a:srgbClr val="800000"/>
                </a:solidFill>
                <a:latin typeface="Arial"/>
              </a:rPr>
              <a:t>Fundamentals of Acoustics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, Edisi ke-4, J. Wiley &amp; S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D. E. Hall,  1987,  </a:t>
            </a:r>
            <a:r>
              <a:rPr b="0" i="1" lang="en-GB" sz="1600" spc="-1" strike="noStrike">
                <a:solidFill>
                  <a:srgbClr val="800000"/>
                </a:solidFill>
                <a:latin typeface="Arial"/>
              </a:rPr>
              <a:t>Basic Acoustics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, John Wiley &amp; S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B. J. Smith, R. J. Peters dan S. Owen, 1996, </a:t>
            </a:r>
            <a:r>
              <a:rPr b="0" i="1" lang="en-GB" sz="1600" spc="-1" strike="noStrike">
                <a:solidFill>
                  <a:srgbClr val="800000"/>
                </a:solidFill>
                <a:latin typeface="Arial"/>
              </a:rPr>
              <a:t>Acoustics and Noise Control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, Longma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1143000"/>
            <a:ext cx="9144000" cy="44956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Example of a  Course Sylla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40" y="1302840"/>
            <a:ext cx="933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NewRomanPS-BoldMT"/>
                <a:ea typeface="Times New Roman"/>
              </a:rPr>
              <a:t>Hasil Pembelajaran Kursus, Hubungannya dengan Hasil Pembelajaran Progra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NewRomanPS-BoldMT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TimesNewRomanPS-BoldMT"/>
                <a:ea typeface="Times New Roman"/>
              </a:rPr>
              <a:t>Kaedah Perlaksanaan dan Kaedah Penilai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262080" y="2481120"/>
          <a:ext cx="8621640" cy="2044800"/>
        </p:xfrm>
        <a:graphic>
          <a:graphicData uri="http://schemas.openxmlformats.org/drawingml/2006/table">
            <a:tbl>
              <a:tblPr/>
              <a:tblGrid>
                <a:gridCol w="249120"/>
                <a:gridCol w="2609640"/>
                <a:gridCol w="30636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52720"/>
                <a:gridCol w="252360"/>
                <a:gridCol w="1873080"/>
                <a:gridCol w="1350360"/>
              </a:tblGrid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Hasil Pembelajaran Kursus (CO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O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Kaedah Perlaksana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Kaedah Penilai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Memahami konsep dan penggunaan istilah-istilah yang terdapat dalam bidang akustik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Perbincangan dalam kuliah dan aktiviti berkumpula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Tutoran, &amp; Kuiz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Keupayaan untuk menyelesaikan masalah melalui pengiraan mengenai ciri-ciri dinamik gelombang dalam benang, yang melibatkan amplitud, kelajuan, frekuensi dan bentuk ragam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Perbincangan dalam kuliah dan aktiviti makm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Tutoran dan Laporan Makmal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985320" y="4723560"/>
            <a:ext cx="71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GB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Kata Kunci:   Mengetahui,   Memahami,   Menyelesai masala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28600" y="1676520"/>
            <a:ext cx="8686800" cy="33526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Example of a  Course Sylla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457200" y="1828800"/>
          <a:ext cx="8229600" cy="2971440"/>
        </p:xfrm>
        <a:graphic>
          <a:graphicData uri="http://schemas.openxmlformats.org/drawingml/2006/table">
            <a:tbl>
              <a:tblPr/>
              <a:tblGrid>
                <a:gridCol w="235080"/>
                <a:gridCol w="2461320"/>
                <a:gridCol w="28944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37960"/>
                <a:gridCol w="237960"/>
                <a:gridCol w="1766880"/>
                <a:gridCol w="1272960"/>
              </a:tblGrid>
              <a:tr h="148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Keupayaan untuk menyelesai masalah kejuruteraan yang berkaitan dengan akustik bangunan dan pencemaran bunyi sekitaran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Perbincangan dalam kuliah dan aktiviti makmal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Tutoran, Kuiz, Peperiksaan dan Laporan Projek/Makmal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Kebolehan untuk menghasilkan laporan kejuruteraan yang berkaitan dengan bidang akustik dan membentangkannya secara individu dan berkumpulan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Kuliah, e-pembelajaran, dan “</a:t>
                      </a:r>
                      <a:r>
                        <a:rPr b="0" i="1" lang="en-US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Problem-Based Learning”</a:t>
                      </a:r>
                      <a:r>
                        <a:rPr b="0" lang="en-US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(PBL)”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Laporan Bertulis, Pembentangan oral dan Penilaian Rakan (Peer Evaluation)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40" name=""/>
          <p:cNvGrpSpPr/>
          <p:nvPr/>
        </p:nvGrpSpPr>
        <p:grpSpPr>
          <a:xfrm>
            <a:off x="1034280" y="5410080"/>
            <a:ext cx="7291800" cy="609840"/>
            <a:chOff x="1034280" y="5410080"/>
            <a:chExt cx="7291800" cy="609840"/>
          </a:xfrm>
        </p:grpSpPr>
        <p:sp>
          <p:nvSpPr>
            <p:cNvPr id="741" name=""/>
            <p:cNvSpPr/>
            <p:nvPr/>
          </p:nvSpPr>
          <p:spPr>
            <a:xfrm>
              <a:off x="1066680" y="5410080"/>
              <a:ext cx="7239240" cy="60984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34280" y="5485680"/>
              <a:ext cx="729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800000"/>
                  </a:solidFill>
                  <a:latin typeface="Arial"/>
                </a:rPr>
                <a:t>1 = Kecil kaitan antara CO dengan PO ,  2 = Sederhana   3 = Bes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228600" y="762120"/>
            <a:ext cx="8686800" cy="6095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xample of a  Course Syllab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533520" y="1295280"/>
          <a:ext cx="8229600" cy="5477040"/>
        </p:xfrm>
        <a:graphic>
          <a:graphicData uri="http://schemas.openxmlformats.org/drawingml/2006/table">
            <a:tbl>
              <a:tblPr/>
              <a:tblGrid>
                <a:gridCol w="7256520"/>
                <a:gridCol w="9730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.      Pengenalan kepada konsep bunyi dan akusti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Ciri-ciri tabii isyarat bunyi. Definasi bunyi, hingar, akustik, kebisingan dan desibel. </a:t>
                      </a:r>
                      <a:r>
                        <a:rPr b="0" lang="pt-BR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Definasi parameter paras tekanan bunyi, paras kuasa bunyi dan paras keamatan bunyi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-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.       Persamaan asas gelombang buny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Konsep asas gelombang sin. Persamaan gelombang dalam sistem berterusan. Analisis gelombang majmuk.    Frekuensi harmonik. Jalur oktaf dan 1/3 oktaf. Konsep spektrum. Perambatan gelombang bunyi. Penggunaan jelmaan Fourier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.       Pengukuran isyarat buny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Meter pengukur bunyi. Pengukuran amplitud dan frekuensi. Takrifan parameter L</a:t>
                      </a:r>
                      <a:r>
                        <a:rPr b="0" lang="en-GB" sz="1200" spc="-1" strike="noStrike" baseline="-30000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eq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, nilai </a:t>
                      </a:r>
                      <a:r>
                        <a:rPr b="0" i="1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rms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, L</a:t>
                      </a:r>
                      <a:r>
                        <a:rPr b="0" lang="en-GB" sz="1200" spc="-1" strike="noStrike" baseline="-30000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, dll…   Mengukur keamatan bunyi. Rangkaian pemberat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4.       Kaedah-kaedah pemprosesan isyarat buny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Analisis statistik. Kajian mendalam analisis spektrum. Spektrum silang. Rangkap hantaran. Analisis domain-masa-frekuensi serentak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6-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5.       Kaedah pengawalan buny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Penyerap bunyi. Dinding penghalang bunyi. Kaedah galangan tiub. Rekabentuk muffler. Penggetar Helmholtz. Penggunaan sistem penyerak bunyi. Bilek gema. Kebok nyah-pantulan. Kaedah kawalan aktif hingar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-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6.       Akustik dalaman bangun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Pengukuran dan pengiraan masa gema. Analisis bunyi dalam ruang tertutup. Pantulan bunyi dalam ruang tertutup. Salunan dalam ruang tertutup. Ciri-ciri akustik dalama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0-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7.       Kesan bunyi kepada manus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Takrif kebisingan. Anatomi telinga manusia. Gangguan ucapan. </a:t>
                      </a: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Kesan bunyi terhadap kesihatan. Hilang upaya deria pendengaran (pekak) sementara dan kekal. Dos hingar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2-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.       Analisis bunyi sekitar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Bunyi dari industri. Bunyi dari kawasan binaan. Bunyi dari kenderaan jalanraya dan keretapi. Analisis bunyi sekitaran. Piawaian bagi paras bunyi yang dibenarkan. Piawaian dan kelengkapan untuk ujian akustik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3-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7" name=""/>
          <p:cNvSpPr/>
          <p:nvPr/>
        </p:nvSpPr>
        <p:spPr>
          <a:xfrm>
            <a:off x="685800" y="9144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Rancangan Mengajar                                                                                       Mingg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477120" y="6553080"/>
            <a:ext cx="266688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228600" y="1143000"/>
            <a:ext cx="8686800" cy="548640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xample of a  Course Syllab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1295280" y="2133720"/>
          <a:ext cx="6782040" cy="3589200"/>
        </p:xfrm>
        <a:graphic>
          <a:graphicData uri="http://schemas.openxmlformats.org/drawingml/2006/table">
            <a:tbl>
              <a:tblPr/>
              <a:tblGrid>
                <a:gridCol w="1036800"/>
                <a:gridCol w="574524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Contoh Tajuk-Tajuk Proj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Pengukuran dan analisis bunyi dari kenderaan jalanray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Kajian penyerapan bunyi menggunakan bahan tempata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Penggunaan teknik kawalan aktif bunyi (active noise control, ANC) di industri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Pembangunan perisian untuk menganalisa isyarat buny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Rekabentuk sistem penghalang bunyi sekitar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2" name=""/>
          <p:cNvSpPr/>
          <p:nvPr/>
        </p:nvSpPr>
        <p:spPr>
          <a:xfrm>
            <a:off x="2743200" y="1294920"/>
            <a:ext cx="35496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Problem Based Learning (PB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600200" y="1523880"/>
            <a:ext cx="5638680" cy="449604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aburan Penilaian Kurs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BL</a:t>
            </a:r>
            <a:r>
              <a:rPr b="0" lang="ms-MY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ms-MY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ms-MY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ms-MY" sz="1800" spc="-1" strike="noStrike">
                <a:solidFill>
                  <a:srgbClr val="800000"/>
                </a:solidFill>
                <a:latin typeface="Arial"/>
              </a:rPr>
              <a:t>20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embentangan    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Kuiz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utoran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10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eperiksaan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ms-MY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ms-MY" sz="1800" spc="-1" strike="noStrike">
                <a:solidFill>
                  <a:srgbClr val="800000"/>
                </a:solidFill>
                <a:latin typeface="Arial"/>
              </a:rPr>
              <a:t>60</a:t>
            </a:r>
            <a:r>
              <a:rPr b="0" lang="ms-MY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ms-MY" sz="18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xample of a  Course Syllab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ACTORS TO BE CONSIDERED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1447920"/>
            <a:ext cx="8686800" cy="510516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Jailani Mohd Nor,  Feb.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895480"/>
            <a:ext cx="3124080" cy="2210040"/>
          </a:xfrm>
          <a:prstGeom prst="rect">
            <a:avLst/>
          </a:prstGeom>
          <a:solidFill>
            <a:srgbClr val="6666ff"/>
          </a:solidFill>
          <a:ln cap="sq"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276720" y="3352680"/>
            <a:ext cx="2590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010280" y="3048120"/>
            <a:ext cx="609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429000" y="160020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GRAM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81280" y="571500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GRAM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3520" y="373392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UB-FIEL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51460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6400800" y="38862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6200000">
            <a:off x="4495680" y="525744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5400000">
            <a:off x="4419000" y="25146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66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Programme Outcom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33520" y="762120"/>
            <a:ext cx="8305560" cy="579096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840240"/>
            <a:ext cx="7696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1   -    an ability to apply knowledge of mathematics, science, and engine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2   -   an ability to design and conduct experiments, as well as to analyze and interpret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3   -   an ability to design a system, component, or process to meet desired needs within realistic constraints such as economic, environmental, social, political, ethical, health and safety, manufacturability, and sustain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4   -   an ability to function on multi-disciplinary tea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5   -   an ability to identify, formulate, and solve engineering probl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6   -   an understanding of professional and ethical respon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7   -   an ability to communicate effectiv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8   -   broad education necessary to understand the impact of engineering solutions in a global, economic, environmental, and societal con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9   -    a recognition of the need for, and an ability to engage in life-long lear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10   -  knowledge of contemporary iss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PO11   -  an ability to use the techniques, skills, and modern engineering tools necessary for engineering practice.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1143000"/>
            <a:ext cx="7924680" cy="40384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080" y="1371600"/>
            <a:ext cx="74678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Felder R. M. and Brent R., 2003, Designing and Teachning Courses to Satisfy the ABET Engineering Criteria, </a:t>
            </a: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J. Eng. Education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ick Ross,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The outcome-led curriculum</a:t>
            </a:r>
            <a:br>
              <a:rPr sz="1800"/>
            </a:b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Where do we go from here?,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  Medical Education Unit, University of Birmingham,  School of Medic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. Felder &amp; R. Brent, </a:t>
            </a: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Designing and Redesigning Courses to Address EC2000, NCSU,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Others whom have shared their notes for this worksho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52280" y="1523880"/>
            <a:ext cx="8686800" cy="48769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Developing Intended Course Outcom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dentifying academic needs and priorities may precede statement of outco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nsider four are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haracteristics of students--background, abilities,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esires and needs of society--work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ducational priorities of the institution, school, and de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quirements of the field of knowled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28600" y="1676520"/>
            <a:ext cx="8686800" cy="487656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eveloping Intended Course Outcomes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- Making Implicit Outcomes Explicit -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focus of learning outcome state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eed to relate to institutional, college, and departmental 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hould pertain to student academic achievement and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t about inputs such as faculty,curriculum, services, or technology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04920" y="1371600"/>
            <a:ext cx="8534160" cy="53341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BLOOM’S TAXONOMY OF EDUCATIONAL OBJECTIVES (COGNITIVE DOMAIN)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018120" y="2895480"/>
            <a:ext cx="2740680" cy="1064160"/>
            <a:chOff x="6018120" y="2895480"/>
            <a:chExt cx="2740680" cy="1064160"/>
          </a:xfrm>
        </p:grpSpPr>
        <p:sp>
          <p:nvSpPr>
            <p:cNvPr id="554" name=""/>
            <p:cNvSpPr/>
            <p:nvPr/>
          </p:nvSpPr>
          <p:spPr>
            <a:xfrm>
              <a:off x="6213600" y="2973240"/>
              <a:ext cx="2044440" cy="368280"/>
            </a:xfrm>
            <a:prstGeom prst="roundRect">
              <a:avLst>
                <a:gd name="adj" fmla="val 12495"/>
              </a:avLst>
            </a:prstGeom>
            <a:solidFill>
              <a:srgbClr val="ff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8120" y="2895480"/>
              <a:ext cx="2740680" cy="10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b89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5b5b89"/>
                  </a:solidFill>
                  <a:latin typeface="Arial"/>
                </a:rPr>
                <a:t>5. Synthes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pose, create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vent, design, impro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076400" y="2892600"/>
            <a:ext cx="2014920" cy="1338480"/>
            <a:chOff x="1076400" y="2892600"/>
            <a:chExt cx="2014920" cy="1338480"/>
          </a:xfrm>
        </p:grpSpPr>
        <p:sp>
          <p:nvSpPr>
            <p:cNvPr id="557" name=""/>
            <p:cNvSpPr/>
            <p:nvPr/>
          </p:nvSpPr>
          <p:spPr>
            <a:xfrm>
              <a:off x="1076400" y="2938320"/>
              <a:ext cx="1816200" cy="368280"/>
            </a:xfrm>
            <a:prstGeom prst="roundRect">
              <a:avLst>
                <a:gd name="adj" fmla="val 12495"/>
              </a:avLst>
            </a:prstGeom>
            <a:solidFill>
              <a:srgbClr val="ff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077480" y="2892600"/>
              <a:ext cx="2013840" cy="13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b89"/>
                  </a:solidFill>
                  <a:latin typeface="Arial"/>
                </a:rPr>
                <a:t>4. Analys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assify, predict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del, der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erpr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479760" y="1574640"/>
            <a:ext cx="2197080" cy="1281240"/>
            <a:chOff x="3479760" y="1574640"/>
            <a:chExt cx="2197080" cy="1281240"/>
          </a:xfrm>
        </p:grpSpPr>
        <p:sp>
          <p:nvSpPr>
            <p:cNvPr id="560" name=""/>
            <p:cNvSpPr/>
            <p:nvPr/>
          </p:nvSpPr>
          <p:spPr>
            <a:xfrm>
              <a:off x="3479760" y="1596960"/>
              <a:ext cx="2197080" cy="368280"/>
            </a:xfrm>
            <a:prstGeom prst="roundRect">
              <a:avLst>
                <a:gd name="adj" fmla="val 12495"/>
              </a:avLst>
            </a:prstGeom>
            <a:solidFill>
              <a:srgbClr val="ff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04240" y="1574640"/>
              <a:ext cx="213264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b89"/>
                  </a:solidFill>
                  <a:latin typeface="Arial"/>
                </a:rPr>
                <a:t>6. Evalu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Judge, select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ritique, justify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timiz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417840" y="5592600"/>
            <a:ext cx="2197080" cy="789840"/>
            <a:chOff x="3417840" y="5592600"/>
            <a:chExt cx="2197080" cy="789840"/>
          </a:xfrm>
        </p:grpSpPr>
        <p:sp>
          <p:nvSpPr>
            <p:cNvPr id="563" name=""/>
            <p:cNvSpPr/>
            <p:nvPr/>
          </p:nvSpPr>
          <p:spPr>
            <a:xfrm>
              <a:off x="3417840" y="5661000"/>
              <a:ext cx="2197080" cy="368280"/>
            </a:xfrm>
            <a:prstGeom prst="roundRect">
              <a:avLst>
                <a:gd name="adj" fmla="val 12495"/>
              </a:avLst>
            </a:prstGeom>
            <a:solidFill>
              <a:srgbClr val="ff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27560" y="5592600"/>
              <a:ext cx="2149560" cy="7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b89"/>
                  </a:solidFill>
                  <a:latin typeface="Arial"/>
                </a:rPr>
                <a:t>1. Knowled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st, reci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495360" y="4697280"/>
            <a:ext cx="2905920" cy="732600"/>
            <a:chOff x="495360" y="4697280"/>
            <a:chExt cx="2905920" cy="732600"/>
          </a:xfrm>
        </p:grpSpPr>
        <p:sp>
          <p:nvSpPr>
            <p:cNvPr id="566" name=""/>
            <p:cNvSpPr/>
            <p:nvPr/>
          </p:nvSpPr>
          <p:spPr>
            <a:xfrm>
              <a:off x="495360" y="4738680"/>
              <a:ext cx="2882880" cy="368280"/>
            </a:xfrm>
            <a:prstGeom prst="roundRect">
              <a:avLst>
                <a:gd name="adj" fmla="val 12495"/>
              </a:avLst>
            </a:prstGeom>
            <a:solidFill>
              <a:srgbClr val="ff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360" y="4697280"/>
              <a:ext cx="2842920" cy="73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b89"/>
                  </a:solidFill>
                  <a:latin typeface="Arial"/>
                </a:rPr>
                <a:t>2. Comprehen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plain, paraphra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788800" y="4724280"/>
            <a:ext cx="2199600" cy="1006920"/>
            <a:chOff x="5788800" y="4724280"/>
            <a:chExt cx="2199600" cy="1006920"/>
          </a:xfrm>
        </p:grpSpPr>
        <p:sp>
          <p:nvSpPr>
            <p:cNvPr id="569" name=""/>
            <p:cNvSpPr/>
            <p:nvPr/>
          </p:nvSpPr>
          <p:spPr>
            <a:xfrm>
              <a:off x="5791320" y="4761000"/>
              <a:ext cx="2197080" cy="368280"/>
            </a:xfrm>
            <a:prstGeom prst="roundRect">
              <a:avLst>
                <a:gd name="adj" fmla="val 12495"/>
              </a:avLst>
            </a:prstGeom>
            <a:solidFill>
              <a:srgbClr val="ff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788800" y="4724280"/>
              <a:ext cx="218448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b89"/>
                  </a:solidFill>
                  <a:latin typeface="Arial"/>
                </a:rPr>
                <a:t>3.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lculate, solve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termine, appl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 flipH="1" flipV="1">
            <a:off x="3360240" y="5132160"/>
            <a:ext cx="808200" cy="525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4849920" y="5118120"/>
            <a:ext cx="958680" cy="534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2889360" y="3257640"/>
            <a:ext cx="1542960" cy="830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4560480" y="2774880"/>
            <a:ext cx="11160" cy="1254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2879640" y="1967040"/>
            <a:ext cx="631800" cy="1015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5649480" y="1955880"/>
            <a:ext cx="636840" cy="1009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68520" y="4938840"/>
            <a:ext cx="2419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3351240" y="3333240"/>
            <a:ext cx="2859120" cy="1411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46720" y="4038480"/>
            <a:ext cx="245880" cy="247680"/>
          </a:xfrm>
          <a:prstGeom prst="ellipse">
            <a:avLst/>
          </a:prstGeom>
          <a:solidFill>
            <a:srgbClr val="ff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368520" y="4197240"/>
            <a:ext cx="1094040" cy="547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4673520" y="4233600"/>
            <a:ext cx="1130400" cy="54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04920" y="1600200"/>
            <a:ext cx="8686800" cy="48769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Classification of Cognitive Domai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loom’s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mpreh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yn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ee handout “Bloom’s Classification of Cognitive Skill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685800" y="306360"/>
          <a:ext cx="8077320" cy="65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6360"/>
                    <a:ext cx="807732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BLOOM’S TAXONOMY: VERBS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28600" y="1523880"/>
            <a:ext cx="8686800" cy="44197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Other Classifications of Cognitive Domai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Miller et 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it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ummar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llu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ed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67280" y="6553080"/>
            <a:ext cx="3276720" cy="304920"/>
          </a:xfrm>
          <a:prstGeom prst="rect">
            <a:avLst/>
          </a:prstGeom>
          <a:solidFill>
            <a:srgbClr val="dfdef6"/>
          </a:solidFill>
          <a:ln cap="sq" w="12600">
            <a:solidFill>
              <a:srgbClr val="dfde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Jailani Mohd Nor,  April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7:33:45Z</dcterms:created>
  <dc:creator>novig</dc:creator>
  <dc:description/>
  <dc:language>en-US</dc:language>
  <cp:lastModifiedBy>Hassan</cp:lastModifiedBy>
  <cp:lastPrinted>2002-10-10T07:08:46Z</cp:lastPrinted>
  <dcterms:modified xsi:type="dcterms:W3CDTF">2005-06-29T02:33:38Z</dcterms:modified>
  <cp:revision>143</cp:revision>
  <dc:subject/>
  <dc:title>KAEDAH PENYELIDIKAN</dc:title>
</cp:coreProperties>
</file>