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19B-2A05-4AF2-BF5B-C4B11FA7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499-371C-401C-B76D-6387524C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3E1-8AC2-4294-ABA8-C0A916C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98C-64E1-43FA-BB1A-93D4432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68B-D9B4-4C52-B1E1-70652719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9D4-6558-42FD-BC26-8129CB58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D8D2-F323-4FB5-B257-66DCCF9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A4D-6FEE-4CBF-9E2F-5E30FD7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6A9-2EA4-4858-B969-60E5543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5EFB-D8FF-453F-A8C3-7293729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DF16-5B7B-46CF-AAE6-B2CCD2C7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0EA-F4E3-4D9D-A723-9A36007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BF41-A1AC-4F88-8A3E-F7B9715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3F52-F91F-442D-BD22-38FDDF03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01E-7C0E-4285-BFC1-4E01299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9680-8D43-4D00-AA3F-6DA3503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1F28-B5BD-4530-A5DD-0D6716F6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C30-BE42-4767-AFC3-1EB7A75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68D-3202-4A02-A45C-B65F2CEF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4EB-D761-4FBF-84FF-4E51BE54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313-0BDC-4756-AB7E-E5A4786C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151-6BBB-4B21-96AC-68AA235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7AB-1BC4-4C97-9944-00E62B5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6DB-B023-4B88-8E54-279841BF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49A-F242-4D0B-B88C-B0A61159B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0E40-40AB-44CD-ADDC-FA3AFCE7A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km.my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ukm.my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INKAGE BETWEEN COURSE OUTCOMES TO PROGRAMME OUTCOME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. Ir. Dr. Wan Hamidon Wan Badaruzza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el Equatorial, Bang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ril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9160" y="1219320"/>
            <a:ext cx="90676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EDUCATIONAL OBJECTIVES (PE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PEO are broad goals describing expected achievements o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tes in their career and professional life after gra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105520"/>
            <a:ext cx="8610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must be responsive to the expressed interest of various groups of programme stakeholders and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06668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OUTCOMES (P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narrower programme level state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describe what students are expected to know and be able to perform or atta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by the time of graduation from the program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 must be linked to PEO, i.e must directly address the PEO and must encompass certain specified outcomes (Outcomes (a) to (k) of EAC man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-4037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-3579840"/>
            <a:ext cx="914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Outcomes and Links to Programme Educational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625464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655308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583416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380880"/>
            <a:ext cx="9144000" cy="6450120"/>
            <a:chOff x="0" y="380880"/>
            <a:chExt cx="9144000" cy="6450120"/>
          </a:xfrm>
        </p:grpSpPr>
        <p:sp>
          <p:nvSpPr>
            <p:cNvPr id="129" name=""/>
            <p:cNvSpPr/>
            <p:nvPr/>
          </p:nvSpPr>
          <p:spPr>
            <a:xfrm>
              <a:off x="246240" y="380880"/>
              <a:ext cx="6886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57200"/>
              <a:ext cx="4648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hievement of P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6960" y="501480"/>
              <a:ext cx="3544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321080" y="431640"/>
              <a:ext cx="4703400" cy="417600"/>
              <a:chOff x="4321080" y="431640"/>
              <a:chExt cx="4703400" cy="417600"/>
            </a:xfrm>
          </p:grpSpPr>
          <p:sp>
            <p:nvSpPr>
              <p:cNvPr id="133" name=""/>
              <p:cNvSpPr/>
              <p:nvPr/>
            </p:nvSpPr>
            <p:spPr>
              <a:xfrm>
                <a:off x="4340880" y="439200"/>
                <a:ext cx="466308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21080" y="431640"/>
                <a:ext cx="4703400" cy="41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240" y="857160"/>
              <a:ext cx="739440" cy="487440"/>
              <a:chOff x="3240" y="857160"/>
              <a:chExt cx="739440" cy="487440"/>
            </a:xfrm>
          </p:grpSpPr>
          <p:sp>
            <p:nvSpPr>
              <p:cNvPr id="136" name=""/>
              <p:cNvSpPr/>
              <p:nvPr/>
            </p:nvSpPr>
            <p:spPr>
              <a:xfrm>
                <a:off x="24120" y="868320"/>
                <a:ext cx="69732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40" y="8571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43040" y="857160"/>
              <a:ext cx="3584160" cy="487440"/>
              <a:chOff x="743040" y="857160"/>
              <a:chExt cx="3584160" cy="487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3920" y="868320"/>
                <a:ext cx="354204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3040" y="857160"/>
                <a:ext cx="358416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240" y="1336680"/>
              <a:ext cx="739440" cy="487440"/>
              <a:chOff x="3240" y="1336680"/>
              <a:chExt cx="739440" cy="487440"/>
            </a:xfrm>
          </p:grpSpPr>
          <p:sp>
            <p:nvSpPr>
              <p:cNvPr id="142" name=""/>
              <p:cNvSpPr/>
              <p:nvPr/>
            </p:nvSpPr>
            <p:spPr>
              <a:xfrm>
                <a:off x="24120" y="134208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40" y="133668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63560" y="1366920"/>
              <a:ext cx="35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acquire and apply knowledge of basic science and engineering fundamental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3040" y="1336680"/>
              <a:ext cx="358452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321080" y="1336680"/>
              <a:ext cx="796680" cy="487440"/>
              <a:chOff x="4321080" y="1336680"/>
              <a:chExt cx="796680" cy="487440"/>
            </a:xfrm>
          </p:grpSpPr>
          <p:sp>
            <p:nvSpPr>
              <p:cNvPr id="147" name=""/>
              <p:cNvSpPr/>
              <p:nvPr/>
            </p:nvSpPr>
            <p:spPr>
              <a:xfrm>
                <a:off x="4341960" y="134208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2108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124600" y="1336680"/>
              <a:ext cx="798120" cy="487440"/>
              <a:chOff x="5124600" y="1336680"/>
              <a:chExt cx="798120" cy="487440"/>
            </a:xfrm>
          </p:grpSpPr>
          <p:sp>
            <p:nvSpPr>
              <p:cNvPr id="150" name=""/>
              <p:cNvSpPr/>
              <p:nvPr/>
            </p:nvSpPr>
            <p:spPr>
              <a:xfrm>
                <a:off x="5145480" y="134208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24600" y="133668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923080" y="1336680"/>
              <a:ext cx="796320" cy="487440"/>
              <a:chOff x="5923080" y="1336680"/>
              <a:chExt cx="796320" cy="487440"/>
            </a:xfrm>
          </p:grpSpPr>
          <p:sp>
            <p:nvSpPr>
              <p:cNvPr id="153" name=""/>
              <p:cNvSpPr/>
              <p:nvPr/>
            </p:nvSpPr>
            <p:spPr>
              <a:xfrm>
                <a:off x="5943960" y="1342080"/>
                <a:ext cx="754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23080" y="1336680"/>
                <a:ext cx="7963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719760" y="1336680"/>
              <a:ext cx="793440" cy="487440"/>
              <a:chOff x="6719760" y="1336680"/>
              <a:chExt cx="793440" cy="487440"/>
            </a:xfrm>
          </p:grpSpPr>
          <p:sp>
            <p:nvSpPr>
              <p:cNvPr id="156" name=""/>
              <p:cNvSpPr/>
              <p:nvPr/>
            </p:nvSpPr>
            <p:spPr>
              <a:xfrm>
                <a:off x="6740640" y="134208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19760" y="133668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513560" y="1336680"/>
              <a:ext cx="796680" cy="487440"/>
              <a:chOff x="7513560" y="1336680"/>
              <a:chExt cx="796680" cy="487440"/>
            </a:xfrm>
          </p:grpSpPr>
          <p:sp>
            <p:nvSpPr>
              <p:cNvPr id="159" name=""/>
              <p:cNvSpPr/>
              <p:nvPr/>
            </p:nvSpPr>
            <p:spPr>
              <a:xfrm>
                <a:off x="7535160" y="134208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51356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8310600" y="1343160"/>
              <a:ext cx="717120" cy="480960"/>
              <a:chOff x="8310600" y="1343160"/>
              <a:chExt cx="717120" cy="480960"/>
            </a:xfrm>
          </p:grpSpPr>
          <p:sp>
            <p:nvSpPr>
              <p:cNvPr id="162" name=""/>
              <p:cNvSpPr/>
              <p:nvPr/>
            </p:nvSpPr>
            <p:spPr>
              <a:xfrm>
                <a:off x="8326440" y="134856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10600" y="134316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60320" y="1836720"/>
              <a:ext cx="35434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communicate effectively, not only with engineers but also with the community at larg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8360" y="182412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324320" y="1824120"/>
              <a:ext cx="796680" cy="973080"/>
              <a:chOff x="4324320" y="1824120"/>
              <a:chExt cx="796680" cy="973080"/>
            </a:xfrm>
          </p:grpSpPr>
          <p:sp>
            <p:nvSpPr>
              <p:cNvPr id="167" name=""/>
              <p:cNvSpPr/>
              <p:nvPr/>
            </p:nvSpPr>
            <p:spPr>
              <a:xfrm>
                <a:off x="4345200" y="1835280"/>
                <a:ext cx="75456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24320" y="1824120"/>
                <a:ext cx="796680" cy="97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30080" y="2309760"/>
              <a:ext cx="3544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in-depth technical competence in a specific engineering disciplin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8360" y="2795760"/>
              <a:ext cx="3585960" cy="48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440" y="5788080"/>
              <a:ext cx="739440" cy="415800"/>
              <a:chOff x="1440" y="5788080"/>
              <a:chExt cx="739440" cy="415800"/>
            </a:xfrm>
          </p:grpSpPr>
          <p:sp>
            <p:nvSpPr>
              <p:cNvPr id="172" name=""/>
              <p:cNvSpPr/>
              <p:nvPr/>
            </p:nvSpPr>
            <p:spPr>
              <a:xfrm>
                <a:off x="22320" y="5793480"/>
                <a:ext cx="697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0" y="5788080"/>
                <a:ext cx="739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41240" y="5788080"/>
              <a:ext cx="3584160" cy="415800"/>
              <a:chOff x="741240" y="5788080"/>
              <a:chExt cx="3584160" cy="415800"/>
            </a:xfrm>
          </p:grpSpPr>
          <p:sp>
            <p:nvSpPr>
              <p:cNvPr id="175" name=""/>
              <p:cNvSpPr/>
              <p:nvPr/>
            </p:nvSpPr>
            <p:spPr>
              <a:xfrm>
                <a:off x="762120" y="5793480"/>
                <a:ext cx="354204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design and conduct experiments, as well as to analyse and interpret data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1240" y="5788080"/>
                <a:ext cx="358416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325760" y="5788080"/>
              <a:ext cx="796680" cy="415800"/>
              <a:chOff x="4325760" y="5788080"/>
              <a:chExt cx="796680" cy="415800"/>
            </a:xfrm>
          </p:grpSpPr>
          <p:sp>
            <p:nvSpPr>
              <p:cNvPr id="178" name=""/>
              <p:cNvSpPr/>
              <p:nvPr/>
            </p:nvSpPr>
            <p:spPr>
              <a:xfrm>
                <a:off x="434664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2576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122800" y="5788080"/>
              <a:ext cx="798120" cy="415800"/>
              <a:chOff x="5122800" y="5788080"/>
              <a:chExt cx="798120" cy="415800"/>
            </a:xfrm>
          </p:grpSpPr>
          <p:sp>
            <p:nvSpPr>
              <p:cNvPr id="181" name=""/>
              <p:cNvSpPr/>
              <p:nvPr/>
            </p:nvSpPr>
            <p:spPr>
              <a:xfrm>
                <a:off x="5143680" y="5793480"/>
                <a:ext cx="756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22800" y="5788080"/>
                <a:ext cx="7981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921280" y="5788080"/>
              <a:ext cx="796680" cy="415800"/>
              <a:chOff x="5921280" y="5788080"/>
              <a:chExt cx="796680" cy="41580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216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2128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711840" y="5788080"/>
              <a:ext cx="793440" cy="415800"/>
              <a:chOff x="6711840" y="5788080"/>
              <a:chExt cx="793440" cy="415800"/>
            </a:xfrm>
          </p:grpSpPr>
          <p:sp>
            <p:nvSpPr>
              <p:cNvPr id="187" name=""/>
              <p:cNvSpPr/>
              <p:nvPr/>
            </p:nvSpPr>
            <p:spPr>
              <a:xfrm>
                <a:off x="6732720" y="5793480"/>
                <a:ext cx="751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11840" y="5788080"/>
                <a:ext cx="793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512120" y="5788080"/>
              <a:ext cx="796320" cy="415800"/>
              <a:chOff x="7512120" y="5788080"/>
              <a:chExt cx="796320" cy="415800"/>
            </a:xfrm>
          </p:grpSpPr>
          <p:sp>
            <p:nvSpPr>
              <p:cNvPr id="190" name=""/>
              <p:cNvSpPr/>
              <p:nvPr/>
            </p:nvSpPr>
            <p:spPr>
              <a:xfrm>
                <a:off x="7533720" y="5793480"/>
                <a:ext cx="75348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12120" y="5788080"/>
                <a:ext cx="7963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308800" y="5788080"/>
              <a:ext cx="715680" cy="415800"/>
              <a:chOff x="8308800" y="5788080"/>
              <a:chExt cx="715680" cy="415800"/>
            </a:xfrm>
          </p:grpSpPr>
          <p:sp>
            <p:nvSpPr>
              <p:cNvPr id="193" name=""/>
              <p:cNvSpPr/>
              <p:nvPr/>
            </p:nvSpPr>
            <p:spPr>
              <a:xfrm>
                <a:off x="8324640" y="5793480"/>
                <a:ext cx="684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308800" y="5788080"/>
                <a:ext cx="715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440" y="6203880"/>
              <a:ext cx="739440" cy="347760"/>
              <a:chOff x="1440" y="6203880"/>
              <a:chExt cx="739440" cy="347760"/>
            </a:xfrm>
          </p:grpSpPr>
          <p:sp>
            <p:nvSpPr>
              <p:cNvPr id="196" name=""/>
              <p:cNvSpPr/>
              <p:nvPr/>
            </p:nvSpPr>
            <p:spPr>
              <a:xfrm>
                <a:off x="22320" y="6210000"/>
                <a:ext cx="697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40" y="6203880"/>
                <a:ext cx="739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1240" y="6203880"/>
              <a:ext cx="3584160" cy="347760"/>
              <a:chOff x="741240" y="6203880"/>
              <a:chExt cx="3584160" cy="347760"/>
            </a:xfrm>
          </p:grpSpPr>
          <p:sp>
            <p:nvSpPr>
              <p:cNvPr id="199" name=""/>
              <p:cNvSpPr/>
              <p:nvPr/>
            </p:nvSpPr>
            <p:spPr>
              <a:xfrm>
                <a:off x="762120" y="6210000"/>
                <a:ext cx="3542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function on multi-disciplinary team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1240" y="6203880"/>
                <a:ext cx="35841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325760" y="6203880"/>
              <a:ext cx="796680" cy="347760"/>
              <a:chOff x="4325760" y="6203880"/>
              <a:chExt cx="796680" cy="347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34664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2576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122800" y="6203880"/>
              <a:ext cx="798120" cy="347760"/>
              <a:chOff x="5122800" y="6203880"/>
              <a:chExt cx="798120" cy="347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143680" y="6210000"/>
                <a:ext cx="756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22800" y="6203880"/>
                <a:ext cx="798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921280" y="6203880"/>
              <a:ext cx="796680" cy="347760"/>
              <a:chOff x="5921280" y="6203880"/>
              <a:chExt cx="796680" cy="347760"/>
            </a:xfrm>
          </p:grpSpPr>
          <p:sp>
            <p:nvSpPr>
              <p:cNvPr id="208" name=""/>
              <p:cNvSpPr/>
              <p:nvPr/>
            </p:nvSpPr>
            <p:spPr>
              <a:xfrm>
                <a:off x="594216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2128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718320" y="6203880"/>
              <a:ext cx="793440" cy="347760"/>
              <a:chOff x="6718320" y="6203880"/>
              <a:chExt cx="793440" cy="347760"/>
            </a:xfrm>
          </p:grpSpPr>
          <p:sp>
            <p:nvSpPr>
              <p:cNvPr id="211" name=""/>
              <p:cNvSpPr/>
              <p:nvPr/>
            </p:nvSpPr>
            <p:spPr>
              <a:xfrm>
                <a:off x="6739200" y="6210000"/>
                <a:ext cx="751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8320" y="6203880"/>
                <a:ext cx="793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512120" y="6203880"/>
              <a:ext cx="796320" cy="347760"/>
              <a:chOff x="7512120" y="6203880"/>
              <a:chExt cx="796320" cy="347760"/>
            </a:xfrm>
          </p:grpSpPr>
          <p:sp>
            <p:nvSpPr>
              <p:cNvPr id="214" name=""/>
              <p:cNvSpPr/>
              <p:nvPr/>
            </p:nvSpPr>
            <p:spPr>
              <a:xfrm>
                <a:off x="7533720" y="6210000"/>
                <a:ext cx="7534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2120" y="6203880"/>
                <a:ext cx="7963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8308800" y="6203880"/>
              <a:ext cx="715680" cy="347760"/>
              <a:chOff x="8308800" y="6203880"/>
              <a:chExt cx="715680" cy="347760"/>
            </a:xfrm>
          </p:grpSpPr>
          <p:sp>
            <p:nvSpPr>
              <p:cNvPr id="217" name=""/>
              <p:cNvSpPr/>
              <p:nvPr/>
            </p:nvSpPr>
            <p:spPr>
              <a:xfrm>
                <a:off x="8324640" y="6210000"/>
                <a:ext cx="684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08800" y="6203880"/>
                <a:ext cx="715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1440" y="6551640"/>
              <a:ext cx="739440" cy="279360"/>
              <a:chOff x="1440" y="6551640"/>
              <a:chExt cx="739440" cy="279360"/>
            </a:xfrm>
          </p:grpSpPr>
          <p:sp>
            <p:nvSpPr>
              <p:cNvPr id="220" name=""/>
              <p:cNvSpPr/>
              <p:nvPr/>
            </p:nvSpPr>
            <p:spPr>
              <a:xfrm>
                <a:off x="22320" y="6556320"/>
                <a:ext cx="697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0" y="6551640"/>
                <a:ext cx="739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41240" y="6551640"/>
              <a:ext cx="3584160" cy="279360"/>
              <a:chOff x="741240" y="6551640"/>
              <a:chExt cx="3584160" cy="279360"/>
            </a:xfrm>
          </p:grpSpPr>
          <p:sp>
            <p:nvSpPr>
              <p:cNvPr id="223" name=""/>
              <p:cNvSpPr/>
              <p:nvPr/>
            </p:nvSpPr>
            <p:spPr>
              <a:xfrm>
                <a:off x="762120" y="6556320"/>
                <a:ext cx="354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Having the knowledge of contemporary issue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1240" y="6551640"/>
                <a:ext cx="358416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325760" y="6551640"/>
              <a:ext cx="796680" cy="279360"/>
              <a:chOff x="4325760" y="6551640"/>
              <a:chExt cx="796680" cy="279360"/>
            </a:xfrm>
          </p:grpSpPr>
          <p:sp>
            <p:nvSpPr>
              <p:cNvPr id="226" name=""/>
              <p:cNvSpPr/>
              <p:nvPr/>
            </p:nvSpPr>
            <p:spPr>
              <a:xfrm>
                <a:off x="434664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2576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122800" y="6551640"/>
              <a:ext cx="798120" cy="279360"/>
              <a:chOff x="5122800" y="6551640"/>
              <a:chExt cx="798120" cy="279360"/>
            </a:xfrm>
          </p:grpSpPr>
          <p:sp>
            <p:nvSpPr>
              <p:cNvPr id="229" name=""/>
              <p:cNvSpPr/>
              <p:nvPr/>
            </p:nvSpPr>
            <p:spPr>
              <a:xfrm>
                <a:off x="5143680" y="6556320"/>
                <a:ext cx="75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22800" y="6551640"/>
                <a:ext cx="7981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921280" y="6551640"/>
              <a:ext cx="796680" cy="279360"/>
              <a:chOff x="5921280" y="6551640"/>
              <a:chExt cx="796680" cy="2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94216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2128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718320" y="6551640"/>
              <a:ext cx="793440" cy="279360"/>
              <a:chOff x="6718320" y="6551640"/>
              <a:chExt cx="793440" cy="279360"/>
            </a:xfrm>
          </p:grpSpPr>
          <p:sp>
            <p:nvSpPr>
              <p:cNvPr id="235" name=""/>
              <p:cNvSpPr/>
              <p:nvPr/>
            </p:nvSpPr>
            <p:spPr>
              <a:xfrm>
                <a:off x="6739200" y="6556320"/>
                <a:ext cx="75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18320" y="6551640"/>
                <a:ext cx="793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512120" y="6551640"/>
              <a:ext cx="796320" cy="279360"/>
              <a:chOff x="7512120" y="6551640"/>
              <a:chExt cx="796320" cy="279360"/>
            </a:xfrm>
          </p:grpSpPr>
          <p:sp>
            <p:nvSpPr>
              <p:cNvPr id="238" name=""/>
              <p:cNvSpPr/>
              <p:nvPr/>
            </p:nvSpPr>
            <p:spPr>
              <a:xfrm>
                <a:off x="7533720" y="6556320"/>
                <a:ext cx="753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12120" y="6551640"/>
                <a:ext cx="7963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308800" y="6551640"/>
              <a:ext cx="715680" cy="279360"/>
              <a:chOff x="8308800" y="6551640"/>
              <a:chExt cx="715680" cy="279360"/>
            </a:xfrm>
          </p:grpSpPr>
          <p:sp>
            <p:nvSpPr>
              <p:cNvPr id="241" name=""/>
              <p:cNvSpPr/>
              <p:nvPr/>
            </p:nvSpPr>
            <p:spPr>
              <a:xfrm>
                <a:off x="8324640" y="6556320"/>
                <a:ext cx="684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308800" y="6551640"/>
                <a:ext cx="715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398840" y="1406520"/>
              <a:ext cx="6159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45040" y="1446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240" y="1824120"/>
              <a:ext cx="739440" cy="485640"/>
              <a:chOff x="3240" y="1824120"/>
              <a:chExt cx="739440" cy="485640"/>
            </a:xfrm>
          </p:grpSpPr>
          <p:sp>
            <p:nvSpPr>
              <p:cNvPr id="246" name=""/>
              <p:cNvSpPr/>
              <p:nvPr/>
            </p:nvSpPr>
            <p:spPr>
              <a:xfrm>
                <a:off x="24120" y="182952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40" y="182412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738360" y="231156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240" y="2309760"/>
              <a:ext cx="739440" cy="487440"/>
              <a:chOff x="3240" y="2309760"/>
              <a:chExt cx="739440" cy="487440"/>
            </a:xfrm>
          </p:grpSpPr>
          <p:sp>
            <p:nvSpPr>
              <p:cNvPr id="250" name=""/>
              <p:cNvSpPr/>
              <p:nvPr/>
            </p:nvSpPr>
            <p:spPr>
              <a:xfrm>
                <a:off x="24120" y="231516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0" y="23097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21080" y="1824120"/>
              <a:ext cx="796680" cy="485640"/>
              <a:chOff x="4321080" y="1824120"/>
              <a:chExt cx="796680" cy="485640"/>
            </a:xfrm>
          </p:grpSpPr>
          <p:sp>
            <p:nvSpPr>
              <p:cNvPr id="253" name=""/>
              <p:cNvSpPr/>
              <p:nvPr/>
            </p:nvSpPr>
            <p:spPr>
              <a:xfrm>
                <a:off x="434196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2108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321080" y="2309760"/>
              <a:ext cx="796680" cy="487440"/>
              <a:chOff x="4321080" y="2309760"/>
              <a:chExt cx="796680" cy="487440"/>
            </a:xfrm>
          </p:grpSpPr>
          <p:sp>
            <p:nvSpPr>
              <p:cNvPr id="256" name=""/>
              <p:cNvSpPr/>
              <p:nvPr/>
            </p:nvSpPr>
            <p:spPr>
              <a:xfrm>
                <a:off x="434196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2108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121360" y="1824120"/>
              <a:ext cx="798120" cy="485640"/>
              <a:chOff x="5121360" y="1824120"/>
              <a:chExt cx="798120" cy="4856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42240" y="182952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21360" y="182412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925960" y="1824120"/>
              <a:ext cx="796680" cy="485640"/>
              <a:chOff x="5925960" y="1824120"/>
              <a:chExt cx="796680" cy="48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94684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2596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11840" y="1824120"/>
              <a:ext cx="793440" cy="485640"/>
              <a:chOff x="6711840" y="1824120"/>
              <a:chExt cx="793440" cy="485640"/>
            </a:xfrm>
          </p:grpSpPr>
          <p:sp>
            <p:nvSpPr>
              <p:cNvPr id="265" name=""/>
              <p:cNvSpPr/>
              <p:nvPr/>
            </p:nvSpPr>
            <p:spPr>
              <a:xfrm>
                <a:off x="6732720" y="1829520"/>
                <a:ext cx="751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11840" y="1824120"/>
                <a:ext cx="793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12120" y="1824120"/>
              <a:ext cx="796320" cy="485640"/>
              <a:chOff x="7512120" y="1824120"/>
              <a:chExt cx="796320" cy="485640"/>
            </a:xfrm>
          </p:grpSpPr>
          <p:sp>
            <p:nvSpPr>
              <p:cNvPr id="268" name=""/>
              <p:cNvSpPr/>
              <p:nvPr/>
            </p:nvSpPr>
            <p:spPr>
              <a:xfrm>
                <a:off x="7533720" y="1829520"/>
                <a:ext cx="75348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12120" y="1824120"/>
                <a:ext cx="7963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41240" y="2827440"/>
              <a:ext cx="3543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ndertake problem identification, formulation and soluti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240" y="2797200"/>
              <a:ext cx="739440" cy="485640"/>
              <a:chOff x="3240" y="2797200"/>
              <a:chExt cx="739440" cy="485640"/>
            </a:xfrm>
          </p:grpSpPr>
          <p:sp>
            <p:nvSpPr>
              <p:cNvPr id="272" name=""/>
              <p:cNvSpPr/>
              <p:nvPr/>
            </p:nvSpPr>
            <p:spPr>
              <a:xfrm>
                <a:off x="24120" y="280260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40" y="279720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307360" y="1824120"/>
              <a:ext cx="717120" cy="480960"/>
              <a:chOff x="8307360" y="1824120"/>
              <a:chExt cx="717120" cy="480960"/>
            </a:xfrm>
          </p:grpSpPr>
          <p:sp>
            <p:nvSpPr>
              <p:cNvPr id="275" name=""/>
              <p:cNvSpPr/>
              <p:nvPr/>
            </p:nvSpPr>
            <p:spPr>
              <a:xfrm>
                <a:off x="8323200" y="18295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07360" y="18241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07360" y="2309760"/>
              <a:ext cx="717120" cy="487440"/>
              <a:chOff x="8307360" y="2309760"/>
              <a:chExt cx="717120" cy="487440"/>
            </a:xfrm>
          </p:grpSpPr>
          <p:sp>
            <p:nvSpPr>
              <p:cNvPr id="278" name=""/>
              <p:cNvSpPr/>
              <p:nvPr/>
            </p:nvSpPr>
            <p:spPr>
              <a:xfrm>
                <a:off x="8323200" y="231516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307360" y="230976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925960" y="2309760"/>
              <a:ext cx="796680" cy="487440"/>
              <a:chOff x="5925960" y="2309760"/>
              <a:chExt cx="796680" cy="487440"/>
            </a:xfrm>
          </p:grpSpPr>
          <p:sp>
            <p:nvSpPr>
              <p:cNvPr id="281" name=""/>
              <p:cNvSpPr/>
              <p:nvPr/>
            </p:nvSpPr>
            <p:spPr>
              <a:xfrm>
                <a:off x="594684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2596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11840" y="2309760"/>
              <a:ext cx="793440" cy="487440"/>
              <a:chOff x="6711840" y="2309760"/>
              <a:chExt cx="793440" cy="487440"/>
            </a:xfrm>
          </p:grpSpPr>
          <p:sp>
            <p:nvSpPr>
              <p:cNvPr id="284" name=""/>
              <p:cNvSpPr/>
              <p:nvPr/>
            </p:nvSpPr>
            <p:spPr>
              <a:xfrm>
                <a:off x="6732720" y="231516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11840" y="230976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8307360" y="2790720"/>
              <a:ext cx="717120" cy="487440"/>
              <a:chOff x="8307360" y="2790720"/>
              <a:chExt cx="717120" cy="487440"/>
            </a:xfrm>
          </p:grpSpPr>
          <p:sp>
            <p:nvSpPr>
              <p:cNvPr id="287" name=""/>
              <p:cNvSpPr/>
              <p:nvPr/>
            </p:nvSpPr>
            <p:spPr>
              <a:xfrm>
                <a:off x="8323200" y="279612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07360" y="279072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711840" y="2805120"/>
              <a:ext cx="793440" cy="487440"/>
              <a:chOff x="6711840" y="2805120"/>
              <a:chExt cx="793440" cy="487440"/>
            </a:xfrm>
          </p:grpSpPr>
          <p:sp>
            <p:nvSpPr>
              <p:cNvPr id="290" name=""/>
              <p:cNvSpPr/>
              <p:nvPr/>
            </p:nvSpPr>
            <p:spPr>
              <a:xfrm>
                <a:off x="6732720" y="281052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11840" y="280512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21360" y="2309760"/>
              <a:ext cx="798120" cy="487440"/>
              <a:chOff x="5121360" y="2309760"/>
              <a:chExt cx="798120" cy="487440"/>
            </a:xfrm>
          </p:grpSpPr>
          <p:sp>
            <p:nvSpPr>
              <p:cNvPr id="293" name=""/>
              <p:cNvSpPr/>
              <p:nvPr/>
            </p:nvSpPr>
            <p:spPr>
              <a:xfrm>
                <a:off x="5142240" y="231516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21360" y="230976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111640" y="2797200"/>
              <a:ext cx="798120" cy="485640"/>
              <a:chOff x="5111640" y="2797200"/>
              <a:chExt cx="798120" cy="485640"/>
            </a:xfrm>
          </p:grpSpPr>
          <p:sp>
            <p:nvSpPr>
              <p:cNvPr id="296" name=""/>
              <p:cNvSpPr/>
              <p:nvPr/>
            </p:nvSpPr>
            <p:spPr>
              <a:xfrm>
                <a:off x="5132520" y="280260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11640" y="279720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502400" y="2309760"/>
              <a:ext cx="796680" cy="487440"/>
              <a:chOff x="7502400" y="2309760"/>
              <a:chExt cx="796680" cy="487440"/>
            </a:xfrm>
          </p:grpSpPr>
          <p:sp>
            <p:nvSpPr>
              <p:cNvPr id="299" name=""/>
              <p:cNvSpPr/>
              <p:nvPr/>
            </p:nvSpPr>
            <p:spPr>
              <a:xfrm>
                <a:off x="7524000" y="231516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0240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516800" y="2797200"/>
              <a:ext cx="796680" cy="485640"/>
              <a:chOff x="7516800" y="2797200"/>
              <a:chExt cx="796680" cy="485640"/>
            </a:xfrm>
          </p:grpSpPr>
          <p:sp>
            <p:nvSpPr>
              <p:cNvPr id="302" name=""/>
              <p:cNvSpPr/>
              <p:nvPr/>
            </p:nvSpPr>
            <p:spPr>
              <a:xfrm>
                <a:off x="7538400" y="2802600"/>
                <a:ext cx="7538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16800" y="279720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5160960"/>
              <a:ext cx="738000" cy="627120"/>
              <a:chOff x="0" y="5160960"/>
              <a:chExt cx="738000" cy="627120"/>
            </a:xfrm>
          </p:grpSpPr>
          <p:sp>
            <p:nvSpPr>
              <p:cNvPr id="305" name=""/>
              <p:cNvSpPr/>
              <p:nvPr/>
            </p:nvSpPr>
            <p:spPr>
              <a:xfrm>
                <a:off x="20880" y="5168160"/>
                <a:ext cx="69588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5160960"/>
                <a:ext cx="73800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798480" y="5187960"/>
              <a:ext cx="3543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sing the need to undertake lifelong learning, and possessing/acquiring the capacity to do s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8360" y="5160960"/>
              <a:ext cx="3585960" cy="627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317840" y="5160960"/>
              <a:ext cx="796680" cy="627120"/>
              <a:chOff x="4317840" y="5160960"/>
              <a:chExt cx="796680" cy="627120"/>
            </a:xfrm>
          </p:grpSpPr>
          <p:sp>
            <p:nvSpPr>
              <p:cNvPr id="310" name=""/>
              <p:cNvSpPr/>
              <p:nvPr/>
            </p:nvSpPr>
            <p:spPr>
              <a:xfrm>
                <a:off x="4338720" y="5168160"/>
                <a:ext cx="7545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1784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121360" y="5160960"/>
              <a:ext cx="798120" cy="627120"/>
              <a:chOff x="5121360" y="5160960"/>
              <a:chExt cx="798120" cy="627120"/>
            </a:xfrm>
          </p:grpSpPr>
          <p:sp>
            <p:nvSpPr>
              <p:cNvPr id="313" name=""/>
              <p:cNvSpPr/>
              <p:nvPr/>
            </p:nvSpPr>
            <p:spPr>
              <a:xfrm>
                <a:off x="5142240" y="5168160"/>
                <a:ext cx="7560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21360" y="5160960"/>
                <a:ext cx="7981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716880" y="5160960"/>
              <a:ext cx="793080" cy="627120"/>
              <a:chOff x="6716880" y="5160960"/>
              <a:chExt cx="793080" cy="627120"/>
            </a:xfrm>
          </p:grpSpPr>
          <p:sp>
            <p:nvSpPr>
              <p:cNvPr id="316" name=""/>
              <p:cNvSpPr/>
              <p:nvPr/>
            </p:nvSpPr>
            <p:spPr>
              <a:xfrm>
                <a:off x="6737760" y="5168160"/>
                <a:ext cx="7509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16880" y="5160960"/>
                <a:ext cx="7930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510320" y="5160960"/>
              <a:ext cx="796680" cy="627120"/>
              <a:chOff x="7510320" y="5160960"/>
              <a:chExt cx="796680" cy="627120"/>
            </a:xfrm>
          </p:grpSpPr>
          <p:sp>
            <p:nvSpPr>
              <p:cNvPr id="319" name=""/>
              <p:cNvSpPr/>
              <p:nvPr/>
            </p:nvSpPr>
            <p:spPr>
              <a:xfrm>
                <a:off x="7531920" y="5168160"/>
                <a:ext cx="75384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1032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8307360" y="5167440"/>
              <a:ext cx="717120" cy="620640"/>
              <a:chOff x="8307360" y="5167440"/>
              <a:chExt cx="717120" cy="620640"/>
            </a:xfrm>
          </p:grpSpPr>
          <p:sp>
            <p:nvSpPr>
              <p:cNvPr id="322" name=""/>
              <p:cNvSpPr/>
              <p:nvPr/>
            </p:nvSpPr>
            <p:spPr>
              <a:xfrm>
                <a:off x="8323200" y="5174280"/>
                <a:ext cx="6850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07360" y="5167440"/>
                <a:ext cx="717120" cy="62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3282840"/>
              <a:ext cx="738000" cy="487440"/>
              <a:chOff x="0" y="3282840"/>
              <a:chExt cx="738000" cy="487440"/>
            </a:xfrm>
          </p:grpSpPr>
          <p:sp>
            <p:nvSpPr>
              <p:cNvPr id="325" name=""/>
              <p:cNvSpPr/>
              <p:nvPr/>
            </p:nvSpPr>
            <p:spPr>
              <a:xfrm>
                <a:off x="20880" y="3288240"/>
                <a:ext cx="6958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282840"/>
                <a:ext cx="73800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60320" y="3314880"/>
              <a:ext cx="3543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tilise a systems approach to design and evaluate operational perform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360" y="3282840"/>
              <a:ext cx="358596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317840" y="3282840"/>
              <a:ext cx="796680" cy="487440"/>
              <a:chOff x="4317840" y="3282840"/>
              <a:chExt cx="796680" cy="48744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8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17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121360" y="3282840"/>
              <a:ext cx="798120" cy="487440"/>
              <a:chOff x="5121360" y="3282840"/>
              <a:chExt cx="798120" cy="487440"/>
            </a:xfrm>
          </p:grpSpPr>
          <p:sp>
            <p:nvSpPr>
              <p:cNvPr id="333" name=""/>
              <p:cNvSpPr/>
              <p:nvPr/>
            </p:nvSpPr>
            <p:spPr>
              <a:xfrm>
                <a:off x="5142240" y="328824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21360" y="328284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919840" y="3282840"/>
              <a:ext cx="796680" cy="487440"/>
              <a:chOff x="5919840" y="3282840"/>
              <a:chExt cx="796680" cy="487440"/>
            </a:xfrm>
          </p:grpSpPr>
          <p:sp>
            <p:nvSpPr>
              <p:cNvPr id="336" name=""/>
              <p:cNvSpPr/>
              <p:nvPr/>
            </p:nvSpPr>
            <p:spPr>
              <a:xfrm>
                <a:off x="5940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19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716880" y="3282840"/>
              <a:ext cx="793080" cy="487440"/>
              <a:chOff x="6716880" y="3282840"/>
              <a:chExt cx="793080" cy="48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7760" y="3288240"/>
                <a:ext cx="7509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6880" y="3282840"/>
                <a:ext cx="7930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510320" y="3282840"/>
              <a:ext cx="796680" cy="487440"/>
              <a:chOff x="7510320" y="3282840"/>
              <a:chExt cx="796680" cy="487440"/>
            </a:xfrm>
          </p:grpSpPr>
          <p:sp>
            <p:nvSpPr>
              <p:cNvPr id="342" name=""/>
              <p:cNvSpPr/>
              <p:nvPr/>
            </p:nvSpPr>
            <p:spPr>
              <a:xfrm>
                <a:off x="7531920" y="328824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1032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307360" y="3289320"/>
              <a:ext cx="717120" cy="480960"/>
              <a:chOff x="8307360" y="3289320"/>
              <a:chExt cx="717120" cy="480960"/>
            </a:xfrm>
          </p:grpSpPr>
          <p:sp>
            <p:nvSpPr>
              <p:cNvPr id="345" name=""/>
              <p:cNvSpPr/>
              <p:nvPr/>
            </p:nvSpPr>
            <p:spPr>
              <a:xfrm>
                <a:off x="8323200" y="32947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307360" y="32893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79400" y="3770280"/>
              <a:ext cx="3543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function effectively as an individual and in a group with the capacity to be a leader or manager as well as an effective team member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" y="4386240"/>
              <a:ext cx="3585960" cy="766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360" y="3763800"/>
              <a:ext cx="3585960" cy="62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240" y="3762360"/>
              <a:ext cx="739440" cy="623880"/>
              <a:chOff x="3240" y="3762360"/>
              <a:chExt cx="739440" cy="623880"/>
            </a:xfrm>
          </p:grpSpPr>
          <p:sp>
            <p:nvSpPr>
              <p:cNvPr id="351" name=""/>
              <p:cNvSpPr/>
              <p:nvPr/>
            </p:nvSpPr>
            <p:spPr>
              <a:xfrm>
                <a:off x="24120" y="3769200"/>
                <a:ext cx="697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240" y="3762360"/>
                <a:ext cx="739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321080" y="3762360"/>
              <a:ext cx="796680" cy="623880"/>
              <a:chOff x="4321080" y="3762360"/>
              <a:chExt cx="796680" cy="623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34196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2108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793800" y="4414680"/>
              <a:ext cx="354312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the understanding of the social, cultural, global and environmental responsibilities and ethics of a professional engineer and the need for sustainable development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240" y="4386240"/>
              <a:ext cx="739440" cy="766800"/>
              <a:chOff x="3240" y="4386240"/>
              <a:chExt cx="739440" cy="766800"/>
            </a:xfrm>
          </p:grpSpPr>
          <p:sp>
            <p:nvSpPr>
              <p:cNvPr id="358" name=""/>
              <p:cNvSpPr/>
              <p:nvPr/>
            </p:nvSpPr>
            <p:spPr>
              <a:xfrm>
                <a:off x="24120" y="4394880"/>
                <a:ext cx="697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40" y="4386240"/>
                <a:ext cx="739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8307360" y="3762360"/>
              <a:ext cx="717120" cy="623880"/>
              <a:chOff x="8307360" y="3762360"/>
              <a:chExt cx="717120" cy="6238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23200" y="3769200"/>
                <a:ext cx="6850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07360" y="3762360"/>
                <a:ext cx="71712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5925960" y="3762360"/>
              <a:ext cx="796680" cy="623880"/>
              <a:chOff x="5925960" y="3762360"/>
              <a:chExt cx="796680" cy="623880"/>
            </a:xfrm>
          </p:grpSpPr>
          <p:sp>
            <p:nvSpPr>
              <p:cNvPr id="364" name=""/>
              <p:cNvSpPr/>
              <p:nvPr/>
            </p:nvSpPr>
            <p:spPr>
              <a:xfrm>
                <a:off x="594684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2596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711840" y="3762360"/>
              <a:ext cx="793440" cy="623880"/>
              <a:chOff x="6711840" y="3762360"/>
              <a:chExt cx="793440" cy="623880"/>
            </a:xfrm>
          </p:grpSpPr>
          <p:sp>
            <p:nvSpPr>
              <p:cNvPr id="367" name=""/>
              <p:cNvSpPr/>
              <p:nvPr/>
            </p:nvSpPr>
            <p:spPr>
              <a:xfrm>
                <a:off x="6732720" y="3769200"/>
                <a:ext cx="751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11840" y="3762360"/>
                <a:ext cx="793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321080" y="4386240"/>
              <a:ext cx="796680" cy="766800"/>
              <a:chOff x="4321080" y="4386240"/>
              <a:chExt cx="796680" cy="766800"/>
            </a:xfrm>
          </p:grpSpPr>
          <p:sp>
            <p:nvSpPr>
              <p:cNvPr id="370" name=""/>
              <p:cNvSpPr/>
              <p:nvPr/>
            </p:nvSpPr>
            <p:spPr>
              <a:xfrm>
                <a:off x="434196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2108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8307360" y="4386240"/>
              <a:ext cx="717120" cy="766800"/>
              <a:chOff x="8307360" y="4386240"/>
              <a:chExt cx="717120" cy="766800"/>
            </a:xfrm>
          </p:grpSpPr>
          <p:sp>
            <p:nvSpPr>
              <p:cNvPr id="373" name=""/>
              <p:cNvSpPr/>
              <p:nvPr/>
            </p:nvSpPr>
            <p:spPr>
              <a:xfrm>
                <a:off x="8323200" y="4394880"/>
                <a:ext cx="68508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307360" y="4386240"/>
                <a:ext cx="717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925960" y="4386240"/>
              <a:ext cx="796680" cy="766800"/>
              <a:chOff x="5925960" y="4386240"/>
              <a:chExt cx="796680" cy="766800"/>
            </a:xfrm>
          </p:grpSpPr>
          <p:sp>
            <p:nvSpPr>
              <p:cNvPr id="376" name=""/>
              <p:cNvSpPr/>
              <p:nvPr/>
            </p:nvSpPr>
            <p:spPr>
              <a:xfrm>
                <a:off x="594684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2596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6711840" y="4386240"/>
              <a:ext cx="793440" cy="766800"/>
              <a:chOff x="6711840" y="4386240"/>
              <a:chExt cx="793440" cy="766800"/>
            </a:xfrm>
          </p:grpSpPr>
          <p:sp>
            <p:nvSpPr>
              <p:cNvPr id="379" name=""/>
              <p:cNvSpPr/>
              <p:nvPr/>
            </p:nvSpPr>
            <p:spPr>
              <a:xfrm>
                <a:off x="6732720" y="4394880"/>
                <a:ext cx="751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11840" y="4386240"/>
                <a:ext cx="793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5124600" y="4386240"/>
              <a:ext cx="798120" cy="766800"/>
              <a:chOff x="5124600" y="4386240"/>
              <a:chExt cx="798120" cy="766800"/>
            </a:xfrm>
          </p:grpSpPr>
          <p:sp>
            <p:nvSpPr>
              <p:cNvPr id="382" name=""/>
              <p:cNvSpPr/>
              <p:nvPr/>
            </p:nvSpPr>
            <p:spPr>
              <a:xfrm>
                <a:off x="5145480" y="4394880"/>
                <a:ext cx="75600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24600" y="4386240"/>
                <a:ext cx="798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502400" y="3762360"/>
              <a:ext cx="796680" cy="623880"/>
              <a:chOff x="7502400" y="3762360"/>
              <a:chExt cx="796680" cy="623880"/>
            </a:xfrm>
          </p:grpSpPr>
          <p:sp>
            <p:nvSpPr>
              <p:cNvPr id="385" name=""/>
              <p:cNvSpPr/>
              <p:nvPr/>
            </p:nvSpPr>
            <p:spPr>
              <a:xfrm>
                <a:off x="7524000" y="3769200"/>
                <a:ext cx="75384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0240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516800" y="4386240"/>
              <a:ext cx="796680" cy="766800"/>
              <a:chOff x="7516800" y="4386240"/>
              <a:chExt cx="796680" cy="766800"/>
            </a:xfrm>
          </p:grpSpPr>
          <p:sp>
            <p:nvSpPr>
              <p:cNvPr id="388" name=""/>
              <p:cNvSpPr/>
              <p:nvPr/>
            </p:nvSpPr>
            <p:spPr>
              <a:xfrm>
                <a:off x="7538400" y="4394880"/>
                <a:ext cx="7538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680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915160" y="5160960"/>
              <a:ext cx="796320" cy="627120"/>
              <a:chOff x="5915160" y="5160960"/>
              <a:chExt cx="796320" cy="62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5936040" y="5168160"/>
                <a:ext cx="7542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15160" y="5160960"/>
                <a:ext cx="7963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945040" y="1941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87960" y="2400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6680" y="24145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98000" y="2913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11840" y="34146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2400" y="39654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6960" y="46512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16880" y="46576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02480" y="531324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58040" y="5300640"/>
              <a:ext cx="695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126040" y="858960"/>
              <a:ext cx="796680" cy="485640"/>
              <a:chOff x="5126040" y="858960"/>
              <a:chExt cx="79668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5146920" y="86436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126040" y="85896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935680" y="858960"/>
              <a:ext cx="779040" cy="485640"/>
              <a:chOff x="5935680" y="858960"/>
              <a:chExt cx="779040" cy="485640"/>
            </a:xfrm>
          </p:grpSpPr>
          <p:sp>
            <p:nvSpPr>
              <p:cNvPr id="407" name=""/>
              <p:cNvSpPr/>
              <p:nvPr/>
            </p:nvSpPr>
            <p:spPr>
              <a:xfrm>
                <a:off x="5956200" y="864360"/>
                <a:ext cx="7376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35680" y="858960"/>
                <a:ext cx="7790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570560" y="9507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61120" y="95076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657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85080" y="9367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803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6600" y="92088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705720" y="860400"/>
              <a:ext cx="793440" cy="487440"/>
              <a:chOff x="6705720" y="860400"/>
              <a:chExt cx="793440" cy="487440"/>
            </a:xfrm>
          </p:grpSpPr>
          <p:sp>
            <p:nvSpPr>
              <p:cNvPr id="416" name=""/>
              <p:cNvSpPr/>
              <p:nvPr/>
            </p:nvSpPr>
            <p:spPr>
              <a:xfrm>
                <a:off x="6726600" y="86580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05720" y="86040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500960" y="860400"/>
              <a:ext cx="796680" cy="487440"/>
              <a:chOff x="7500960" y="860400"/>
              <a:chExt cx="796680" cy="487440"/>
            </a:xfrm>
          </p:grpSpPr>
          <p:sp>
            <p:nvSpPr>
              <p:cNvPr id="419" name=""/>
              <p:cNvSpPr/>
              <p:nvPr/>
            </p:nvSpPr>
            <p:spPr>
              <a:xfrm>
                <a:off x="7522560" y="86580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00960" y="86040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8298000" y="855720"/>
              <a:ext cx="717120" cy="480960"/>
              <a:chOff x="8298000" y="855720"/>
              <a:chExt cx="717120" cy="480960"/>
            </a:xfrm>
          </p:grpSpPr>
          <p:sp>
            <p:nvSpPr>
              <p:cNvPr id="422" name=""/>
              <p:cNvSpPr/>
              <p:nvPr/>
            </p:nvSpPr>
            <p:spPr>
              <a:xfrm>
                <a:off x="8313840" y="8611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298000" y="8557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"/>
          <p:cNvSpPr/>
          <p:nvPr/>
        </p:nvSpPr>
        <p:spPr>
          <a:xfrm>
            <a:off x="0" y="-1000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– PEO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1219320"/>
            <a:ext cx="86104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UTCOMES (C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 are statements of student ac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 what the student is able to do as the course progresse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at serve as evidence of the achievement of PO. These statements are more course specific and relate to the course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5715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 are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17280" y="304920"/>
            <a:ext cx="70218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me Educationa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86120" y="1600200"/>
            <a:ext cx="46414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Programme Outcomes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59160" y="548640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88040" y="4495680"/>
            <a:ext cx="295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2192400"/>
            <a:ext cx="271440" cy="3294000"/>
          </a:xfrm>
          <a:custGeom>
            <a:avLst/>
            <a:gdLst/>
            <a:ahLst/>
            <a:rect l="l" t="t" r="r" b="b"/>
            <a:pathLst>
              <a:path w="100" h="1920">
                <a:moveTo>
                  <a:pt x="0" y="1920"/>
                </a:moveTo>
                <a:cubicBezTo>
                  <a:pt x="1" y="1767"/>
                  <a:pt x="1" y="1169"/>
                  <a:pt x="4" y="989"/>
                </a:cubicBezTo>
                <a:cubicBezTo>
                  <a:pt x="7" y="809"/>
                  <a:pt x="11" y="907"/>
                  <a:pt x="18" y="841"/>
                </a:cubicBezTo>
                <a:cubicBezTo>
                  <a:pt x="25" y="775"/>
                  <a:pt x="35" y="678"/>
                  <a:pt x="46" y="594"/>
                </a:cubicBezTo>
                <a:cubicBezTo>
                  <a:pt x="57" y="510"/>
                  <a:pt x="73" y="437"/>
                  <a:pt x="82" y="338"/>
                </a:cubicBezTo>
                <a:cubicBezTo>
                  <a:pt x="91" y="239"/>
                  <a:pt x="96" y="70"/>
                  <a:pt x="10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7560" y="2171880"/>
            <a:ext cx="1800000" cy="2333520"/>
          </a:xfrm>
          <a:custGeom>
            <a:avLst/>
            <a:gdLst/>
            <a:ahLst/>
            <a:rect l="l" t="t" r="r" b="b"/>
            <a:pathLst>
              <a:path w="1134" h="1470">
                <a:moveTo>
                  <a:pt x="1119" y="1470"/>
                </a:moveTo>
                <a:cubicBezTo>
                  <a:pt x="1122" y="1224"/>
                  <a:pt x="1134" y="990"/>
                  <a:pt x="1119" y="858"/>
                </a:cubicBezTo>
                <a:cubicBezTo>
                  <a:pt x="1104" y="726"/>
                  <a:pt x="1076" y="727"/>
                  <a:pt x="1029" y="678"/>
                </a:cubicBezTo>
                <a:cubicBezTo>
                  <a:pt x="982" y="629"/>
                  <a:pt x="919" y="591"/>
                  <a:pt x="837" y="564"/>
                </a:cubicBezTo>
                <a:cubicBezTo>
                  <a:pt x="755" y="537"/>
                  <a:pt x="636" y="532"/>
                  <a:pt x="537" y="516"/>
                </a:cubicBezTo>
                <a:cubicBezTo>
                  <a:pt x="438" y="500"/>
                  <a:pt x="326" y="499"/>
                  <a:pt x="243" y="468"/>
                </a:cubicBezTo>
                <a:cubicBezTo>
                  <a:pt x="160" y="437"/>
                  <a:pt x="78" y="408"/>
                  <a:pt x="39" y="330"/>
                </a:cubicBezTo>
                <a:cubicBezTo>
                  <a:pt x="0" y="252"/>
                  <a:pt x="15" y="69"/>
                  <a:pt x="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67080" y="914040"/>
            <a:ext cx="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11600" y="39625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6680" y="53989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2235240"/>
            <a:ext cx="812880" cy="172728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1371"/>
                </a:moveTo>
                <a:cubicBezTo>
                  <a:pt x="4" y="1295"/>
                  <a:pt x="0" y="1036"/>
                  <a:pt x="27" y="914"/>
                </a:cubicBezTo>
                <a:cubicBezTo>
                  <a:pt x="54" y="792"/>
                  <a:pt x="118" y="715"/>
                  <a:pt x="165" y="640"/>
                </a:cubicBezTo>
                <a:cubicBezTo>
                  <a:pt x="212" y="565"/>
                  <a:pt x="263" y="538"/>
                  <a:pt x="311" y="466"/>
                </a:cubicBezTo>
                <a:cubicBezTo>
                  <a:pt x="359" y="394"/>
                  <a:pt x="420" y="283"/>
                  <a:pt x="453" y="205"/>
                </a:cubicBezTo>
                <a:cubicBezTo>
                  <a:pt x="486" y="127"/>
                  <a:pt x="500" y="43"/>
                  <a:pt x="51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00120" y="2220840"/>
            <a:ext cx="1881360" cy="3143160"/>
          </a:xfrm>
          <a:custGeom>
            <a:avLst/>
            <a:gdLst/>
            <a:ahLst/>
            <a:rect l="l" t="t" r="r" b="b"/>
            <a:pathLst>
              <a:path w="1185" h="1980">
                <a:moveTo>
                  <a:pt x="29" y="1980"/>
                </a:moveTo>
                <a:cubicBezTo>
                  <a:pt x="30" y="1883"/>
                  <a:pt x="0" y="1564"/>
                  <a:pt x="33" y="1399"/>
                </a:cubicBezTo>
                <a:cubicBezTo>
                  <a:pt x="66" y="1234"/>
                  <a:pt x="140" y="1091"/>
                  <a:pt x="225" y="987"/>
                </a:cubicBezTo>
                <a:cubicBezTo>
                  <a:pt x="310" y="883"/>
                  <a:pt x="434" y="865"/>
                  <a:pt x="545" y="777"/>
                </a:cubicBezTo>
                <a:cubicBezTo>
                  <a:pt x="656" y="689"/>
                  <a:pt x="786" y="586"/>
                  <a:pt x="893" y="457"/>
                </a:cubicBezTo>
                <a:cubicBezTo>
                  <a:pt x="1000" y="328"/>
                  <a:pt x="1124" y="95"/>
                  <a:pt x="1185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375560" y="1371600"/>
            <a:ext cx="467496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urricular Revamp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7" name=""/>
          <p:cNvSpPr/>
          <p:nvPr/>
        </p:nvSpPr>
        <p:spPr>
          <a:xfrm>
            <a:off x="1757160" y="304920"/>
            <a:ext cx="18968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8880" y="2286000"/>
            <a:ext cx="45392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rting from scr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8320" y="3809880"/>
            <a:ext cx="53730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odify existing curricu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82480" y="3048120"/>
            <a:ext cx="497880" cy="5205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4800600"/>
            <a:ext cx="84650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elivery Methods/instructional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2680" y="5715000"/>
            <a:ext cx="71560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sssessment &amp; 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rogramme 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264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courses in the programme curriculum designated to address the PO. Preferably, courses that all students will take. Elective courses may or may not be chos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for each core course a set of one or more 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a matrix of CO against PO (CO-PO Matrix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level of emphasis on PO by each 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ies 1, 2, and 3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ed in the matrix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e the leve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whether sligh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ately,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stantively addres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4191120"/>
            <a:ext cx="2895480" cy="2666880"/>
          </a:xfrm>
          <a:prstGeom prst="wedgeRoundRectCallout">
            <a:avLst>
              <a:gd name="adj1" fmla="val -93750"/>
              <a:gd name="adj2" fmla="val -2319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based on a review of course materials conducted by a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of a CO-PO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4405320"/>
            <a:ext cx="13510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Laboratory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4386240"/>
            <a:ext cx="16765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7372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2136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8936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73720" y="3833640"/>
            <a:ext cx="2156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57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41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988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440532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9408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4414680"/>
            <a:ext cx="306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4405320"/>
            <a:ext cx="2666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problems through computation on dynamic/vibration characteristi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f str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4429080"/>
            <a:ext cx="2491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543800" y="3138480"/>
            <a:ext cx="1351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3119400"/>
            <a:ext cx="1752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16560" y="3097080"/>
            <a:ext cx="252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21360" y="3083040"/>
            <a:ext cx="2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0536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6100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372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57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41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25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1008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408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87720" y="3083040"/>
            <a:ext cx="306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819520"/>
            <a:ext cx="259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engineering problems related to building acoustic and environmental noise poll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4200" y="3052800"/>
            <a:ext cx="249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99520" y="1752480"/>
            <a:ext cx="14158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1752480"/>
            <a:ext cx="13716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livery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656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9264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9104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4660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8776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7212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2732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28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2280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O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87720" y="1752480"/>
            <a:ext cx="306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7720" y="1752480"/>
            <a:ext cx="2610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urse Outcomes (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1752480"/>
            <a:ext cx="24912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308304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434340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17524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60958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83908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433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1476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43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086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00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864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915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320" y="6172200"/>
            <a:ext cx="7238880" cy="609480"/>
            <a:chOff x="76320" y="6172200"/>
            <a:chExt cx="7238880" cy="609480"/>
          </a:xfrm>
        </p:grpSpPr>
        <p:sp>
          <p:nvSpPr>
            <p:cNvPr id="530" name=""/>
            <p:cNvSpPr/>
            <p:nvPr/>
          </p:nvSpPr>
          <p:spPr>
            <a:xfrm>
              <a:off x="76320" y="6172200"/>
              <a:ext cx="7238880" cy="6094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1080" y="624744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781680" y="6553080"/>
            <a:ext cx="23623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 a matrix of courses against PO (Course-PO Matri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level of emphasis on PO by each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ut the entries in the CO-PO matrix and insert in the Course-PO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O are covered and distributed throughout the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1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544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7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delivery/teaching method to ensure the student’s attainment of the PO – PBL, co-operative learning, capstone project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Delivery Structu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0" y="746280"/>
          <a:ext cx="9144000" cy="61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6280"/>
                    <a:ext cx="914400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s Worklo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tent as well as the delivery method contribute to students worklo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students available time in a week is 54 hour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81360" y="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ximum Number of Subject per Semest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so, remember 1 credit = 40 hours student learning time per semester of 14 wee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, 1 credit = 40/14 = 2.86 or about 3 hours per 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eans, humanly possible credit per week = 54/3 = 18 cr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subjects of 3 credits e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/3 =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6 sub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student’s attainment of the PO (known as Outcome Indicators  by Feld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graduates attainment of th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6320" y="184320"/>
            <a:ext cx="9067680" cy="63817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438280" y="990720"/>
            <a:ext cx="5029200" cy="1904760"/>
          </a:xfrm>
          <a:custGeom>
            <a:avLst/>
            <a:gdLst/>
            <a:ahLst/>
            <a:rect l="l" t="t" r="r" b="b"/>
            <a:pathLst>
              <a:path w="3464" h="1394">
                <a:moveTo>
                  <a:pt x="57" y="594"/>
                </a:moveTo>
                <a:cubicBezTo>
                  <a:pt x="85" y="511"/>
                  <a:pt x="139" y="450"/>
                  <a:pt x="194" y="384"/>
                </a:cubicBezTo>
                <a:cubicBezTo>
                  <a:pt x="262" y="302"/>
                  <a:pt x="324" y="190"/>
                  <a:pt x="432" y="155"/>
                </a:cubicBezTo>
                <a:cubicBezTo>
                  <a:pt x="533" y="79"/>
                  <a:pt x="648" y="73"/>
                  <a:pt x="770" y="64"/>
                </a:cubicBezTo>
                <a:cubicBezTo>
                  <a:pt x="868" y="33"/>
                  <a:pt x="970" y="44"/>
                  <a:pt x="1072" y="27"/>
                </a:cubicBezTo>
                <a:cubicBezTo>
                  <a:pt x="1224" y="2"/>
                  <a:pt x="1145" y="12"/>
                  <a:pt x="1310" y="0"/>
                </a:cubicBezTo>
                <a:cubicBezTo>
                  <a:pt x="1597" y="6"/>
                  <a:pt x="1861" y="7"/>
                  <a:pt x="2142" y="46"/>
                </a:cubicBezTo>
                <a:cubicBezTo>
                  <a:pt x="2271" y="125"/>
                  <a:pt x="2413" y="137"/>
                  <a:pt x="2562" y="146"/>
                </a:cubicBezTo>
                <a:cubicBezTo>
                  <a:pt x="2601" y="159"/>
                  <a:pt x="2624" y="188"/>
                  <a:pt x="2663" y="201"/>
                </a:cubicBezTo>
                <a:cubicBezTo>
                  <a:pt x="2675" y="210"/>
                  <a:pt x="2688" y="217"/>
                  <a:pt x="2699" y="228"/>
                </a:cubicBezTo>
                <a:cubicBezTo>
                  <a:pt x="2710" y="239"/>
                  <a:pt x="2715" y="255"/>
                  <a:pt x="2727" y="265"/>
                </a:cubicBezTo>
                <a:cubicBezTo>
                  <a:pt x="2770" y="304"/>
                  <a:pt x="2830" y="318"/>
                  <a:pt x="2873" y="356"/>
                </a:cubicBezTo>
                <a:cubicBezTo>
                  <a:pt x="2946" y="420"/>
                  <a:pt x="2891" y="384"/>
                  <a:pt x="2955" y="430"/>
                </a:cubicBezTo>
                <a:cubicBezTo>
                  <a:pt x="2995" y="459"/>
                  <a:pt x="3048" y="469"/>
                  <a:pt x="3083" y="503"/>
                </a:cubicBezTo>
                <a:cubicBezTo>
                  <a:pt x="3125" y="544"/>
                  <a:pt x="3173" y="580"/>
                  <a:pt x="3230" y="594"/>
                </a:cubicBezTo>
                <a:cubicBezTo>
                  <a:pt x="3262" y="627"/>
                  <a:pt x="3295" y="652"/>
                  <a:pt x="3339" y="667"/>
                </a:cubicBezTo>
                <a:cubicBezTo>
                  <a:pt x="3357" y="723"/>
                  <a:pt x="3387" y="769"/>
                  <a:pt x="3440" y="795"/>
                </a:cubicBezTo>
                <a:cubicBezTo>
                  <a:pt x="3464" y="917"/>
                  <a:pt x="3423" y="990"/>
                  <a:pt x="3348" y="1079"/>
                </a:cubicBezTo>
                <a:cubicBezTo>
                  <a:pt x="3315" y="1118"/>
                  <a:pt x="3285" y="1162"/>
                  <a:pt x="3239" y="1188"/>
                </a:cubicBezTo>
                <a:cubicBezTo>
                  <a:pt x="3210" y="1204"/>
                  <a:pt x="3176" y="1209"/>
                  <a:pt x="3147" y="1225"/>
                </a:cubicBezTo>
                <a:cubicBezTo>
                  <a:pt x="3087" y="1258"/>
                  <a:pt x="3005" y="1301"/>
                  <a:pt x="2937" y="1316"/>
                </a:cubicBezTo>
                <a:cubicBezTo>
                  <a:pt x="2790" y="1348"/>
                  <a:pt x="2819" y="1342"/>
                  <a:pt x="2690" y="1353"/>
                </a:cubicBezTo>
                <a:cubicBezTo>
                  <a:pt x="2503" y="1394"/>
                  <a:pt x="2714" y="1357"/>
                  <a:pt x="2370" y="1344"/>
                </a:cubicBezTo>
                <a:cubicBezTo>
                  <a:pt x="2105" y="1334"/>
                  <a:pt x="1840" y="1358"/>
                  <a:pt x="1575" y="1362"/>
                </a:cubicBezTo>
                <a:cubicBezTo>
                  <a:pt x="1414" y="1349"/>
                  <a:pt x="1261" y="1324"/>
                  <a:pt x="1099" y="1316"/>
                </a:cubicBezTo>
                <a:cubicBezTo>
                  <a:pt x="1040" y="1310"/>
                  <a:pt x="993" y="1298"/>
                  <a:pt x="935" y="1289"/>
                </a:cubicBezTo>
                <a:cubicBezTo>
                  <a:pt x="878" y="1265"/>
                  <a:pt x="839" y="1244"/>
                  <a:pt x="779" y="1234"/>
                </a:cubicBezTo>
                <a:cubicBezTo>
                  <a:pt x="733" y="1219"/>
                  <a:pt x="689" y="1209"/>
                  <a:pt x="642" y="1198"/>
                </a:cubicBezTo>
                <a:cubicBezTo>
                  <a:pt x="557" y="1138"/>
                  <a:pt x="680" y="1220"/>
                  <a:pt x="578" y="1170"/>
                </a:cubicBezTo>
                <a:cubicBezTo>
                  <a:pt x="461" y="1113"/>
                  <a:pt x="573" y="1148"/>
                  <a:pt x="487" y="1124"/>
                </a:cubicBezTo>
                <a:cubicBezTo>
                  <a:pt x="443" y="1092"/>
                  <a:pt x="392" y="1068"/>
                  <a:pt x="340" y="1051"/>
                </a:cubicBezTo>
                <a:cubicBezTo>
                  <a:pt x="278" y="1010"/>
                  <a:pt x="210" y="974"/>
                  <a:pt x="139" y="951"/>
                </a:cubicBezTo>
                <a:cubicBezTo>
                  <a:pt x="86" y="913"/>
                  <a:pt x="38" y="885"/>
                  <a:pt x="2" y="832"/>
                </a:cubicBezTo>
                <a:cubicBezTo>
                  <a:pt x="13" y="712"/>
                  <a:pt x="0" y="763"/>
                  <a:pt x="30" y="676"/>
                </a:cubicBezTo>
                <a:cubicBezTo>
                  <a:pt x="35" y="661"/>
                  <a:pt x="61" y="665"/>
                  <a:pt x="75" y="658"/>
                </a:cubicBezTo>
              </a:path>
            </a:pathLst>
          </a:custGeom>
          <a:noFill/>
          <a:ln cap="sq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828800" y="2895480"/>
            <a:ext cx="5538960" cy="3243240"/>
          </a:xfrm>
          <a:custGeom>
            <a:avLst/>
            <a:gdLst/>
            <a:ahLst/>
            <a:rect l="l" t="t" r="r" b="b"/>
            <a:pathLst>
              <a:path w="3454" h="1903">
                <a:moveTo>
                  <a:pt x="120" y="75"/>
                </a:moveTo>
                <a:cubicBezTo>
                  <a:pt x="103" y="144"/>
                  <a:pt x="80" y="190"/>
                  <a:pt x="38" y="249"/>
                </a:cubicBezTo>
                <a:cubicBezTo>
                  <a:pt x="16" y="339"/>
                  <a:pt x="9" y="411"/>
                  <a:pt x="2" y="505"/>
                </a:cubicBezTo>
                <a:cubicBezTo>
                  <a:pt x="8" y="586"/>
                  <a:pt x="0" y="703"/>
                  <a:pt x="38" y="779"/>
                </a:cubicBezTo>
                <a:cubicBezTo>
                  <a:pt x="44" y="791"/>
                  <a:pt x="59" y="795"/>
                  <a:pt x="66" y="806"/>
                </a:cubicBezTo>
                <a:cubicBezTo>
                  <a:pt x="158" y="937"/>
                  <a:pt x="251" y="1047"/>
                  <a:pt x="367" y="1154"/>
                </a:cubicBezTo>
                <a:cubicBezTo>
                  <a:pt x="439" y="1220"/>
                  <a:pt x="430" y="1183"/>
                  <a:pt x="514" y="1245"/>
                </a:cubicBezTo>
                <a:cubicBezTo>
                  <a:pt x="660" y="1353"/>
                  <a:pt x="483" y="1258"/>
                  <a:pt x="623" y="1327"/>
                </a:cubicBezTo>
                <a:cubicBezTo>
                  <a:pt x="775" y="1479"/>
                  <a:pt x="833" y="1531"/>
                  <a:pt x="1026" y="1638"/>
                </a:cubicBezTo>
                <a:cubicBezTo>
                  <a:pt x="1059" y="1656"/>
                  <a:pt x="1232" y="1692"/>
                  <a:pt x="1272" y="1702"/>
                </a:cubicBezTo>
                <a:cubicBezTo>
                  <a:pt x="1309" y="1711"/>
                  <a:pt x="1345" y="1725"/>
                  <a:pt x="1382" y="1730"/>
                </a:cubicBezTo>
                <a:cubicBezTo>
                  <a:pt x="1452" y="1740"/>
                  <a:pt x="1592" y="1748"/>
                  <a:pt x="1592" y="1748"/>
                </a:cubicBezTo>
                <a:cubicBezTo>
                  <a:pt x="1650" y="1769"/>
                  <a:pt x="1708" y="1791"/>
                  <a:pt x="1766" y="1812"/>
                </a:cubicBezTo>
                <a:cubicBezTo>
                  <a:pt x="1825" y="1834"/>
                  <a:pt x="2090" y="1844"/>
                  <a:pt x="2168" y="1849"/>
                </a:cubicBezTo>
                <a:cubicBezTo>
                  <a:pt x="2250" y="1854"/>
                  <a:pt x="2415" y="1867"/>
                  <a:pt x="2415" y="1867"/>
                </a:cubicBezTo>
                <a:cubicBezTo>
                  <a:pt x="2478" y="1887"/>
                  <a:pt x="2550" y="1890"/>
                  <a:pt x="2616" y="1903"/>
                </a:cubicBezTo>
                <a:cubicBezTo>
                  <a:pt x="2747" y="1900"/>
                  <a:pt x="2879" y="1899"/>
                  <a:pt x="3010" y="1894"/>
                </a:cubicBezTo>
                <a:cubicBezTo>
                  <a:pt x="3048" y="1892"/>
                  <a:pt x="3052" y="1879"/>
                  <a:pt x="3083" y="1858"/>
                </a:cubicBezTo>
                <a:cubicBezTo>
                  <a:pt x="3128" y="1828"/>
                  <a:pt x="3173" y="1795"/>
                  <a:pt x="3211" y="1757"/>
                </a:cubicBezTo>
                <a:cubicBezTo>
                  <a:pt x="3247" y="1721"/>
                  <a:pt x="3266" y="1648"/>
                  <a:pt x="3302" y="1602"/>
                </a:cubicBezTo>
                <a:cubicBezTo>
                  <a:pt x="3317" y="1563"/>
                  <a:pt x="3329" y="1540"/>
                  <a:pt x="3357" y="1510"/>
                </a:cubicBezTo>
                <a:cubicBezTo>
                  <a:pt x="3367" y="1459"/>
                  <a:pt x="3371" y="1442"/>
                  <a:pt x="3403" y="1401"/>
                </a:cubicBezTo>
                <a:cubicBezTo>
                  <a:pt x="3422" y="1343"/>
                  <a:pt x="3427" y="1287"/>
                  <a:pt x="3439" y="1227"/>
                </a:cubicBezTo>
                <a:cubicBezTo>
                  <a:pt x="3448" y="1073"/>
                  <a:pt x="3454" y="1100"/>
                  <a:pt x="3439" y="971"/>
                </a:cubicBezTo>
                <a:cubicBezTo>
                  <a:pt x="3431" y="906"/>
                  <a:pt x="3426" y="906"/>
                  <a:pt x="3403" y="834"/>
                </a:cubicBezTo>
                <a:cubicBezTo>
                  <a:pt x="3400" y="825"/>
                  <a:pt x="3394" y="806"/>
                  <a:pt x="3394" y="806"/>
                </a:cubicBezTo>
                <a:cubicBezTo>
                  <a:pt x="3378" y="690"/>
                  <a:pt x="3324" y="538"/>
                  <a:pt x="3256" y="441"/>
                </a:cubicBezTo>
                <a:cubicBezTo>
                  <a:pt x="3236" y="357"/>
                  <a:pt x="3121" y="232"/>
                  <a:pt x="3037" y="212"/>
                </a:cubicBezTo>
                <a:cubicBezTo>
                  <a:pt x="2995" y="177"/>
                  <a:pt x="2966" y="153"/>
                  <a:pt x="2918" y="130"/>
                </a:cubicBezTo>
                <a:cubicBezTo>
                  <a:pt x="2874" y="84"/>
                  <a:pt x="2820" y="68"/>
                  <a:pt x="2763" y="47"/>
                </a:cubicBezTo>
                <a:cubicBezTo>
                  <a:pt x="2474" y="53"/>
                  <a:pt x="2206" y="66"/>
                  <a:pt x="1922" y="84"/>
                </a:cubicBezTo>
                <a:cubicBezTo>
                  <a:pt x="1812" y="111"/>
                  <a:pt x="1687" y="84"/>
                  <a:pt x="1574" y="75"/>
                </a:cubicBezTo>
                <a:cubicBezTo>
                  <a:pt x="1490" y="47"/>
                  <a:pt x="1376" y="53"/>
                  <a:pt x="1291" y="47"/>
                </a:cubicBezTo>
                <a:cubicBezTo>
                  <a:pt x="1218" y="42"/>
                  <a:pt x="1071" y="29"/>
                  <a:pt x="1071" y="29"/>
                </a:cubicBezTo>
                <a:cubicBezTo>
                  <a:pt x="983" y="0"/>
                  <a:pt x="912" y="9"/>
                  <a:pt x="824" y="11"/>
                </a:cubicBezTo>
                <a:cubicBezTo>
                  <a:pt x="593" y="16"/>
                  <a:pt x="361" y="17"/>
                  <a:pt x="130" y="20"/>
                </a:cubicBezTo>
                <a:cubicBezTo>
                  <a:pt x="109" y="40"/>
                  <a:pt x="82" y="56"/>
                  <a:pt x="120" y="75"/>
                </a:cubicBezTo>
                <a:close/>
              </a:path>
            </a:pathLst>
          </a:custGeom>
          <a:noFill/>
          <a:ln cap="sq"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9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erformance targets, i.e. the target criteria for the Outcome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average score, score earned by at least 80% of) the programme graduates on the (capstone design report, portfolio evaluation) must be at least 75/1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median rating for, rating earned by at least 80% of) the programme graduates on the (self-rating sheet, peer rating sheet, senior survey, alumni survey, employer survey, final oral presentation) must be at least (75/100, 4.o 0n a Likert scale, “Very goo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940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sure CQI of programme (which is mandatory in OBE), if the performance target is not met, track which component/s in the course (content, delivery, assessment methods, etc.), and try to improve or change where necess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ps might be taken at the programme course levels to raise the level of achievement of the outcomes (PO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38280" y="914400"/>
            <a:ext cx="449604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heart of OBE is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600" y="2743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295280"/>
            <a:ext cx="9199440" cy="5562720"/>
            <a:chOff x="0" y="1295280"/>
            <a:chExt cx="9199440" cy="5562720"/>
          </a:xfrm>
        </p:grpSpPr>
        <p:sp>
          <p:nvSpPr>
            <p:cNvPr id="582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2666880" y="1371600"/>
              <a:ext cx="3809880" cy="685800"/>
              <a:chOff x="2666880" y="1371600"/>
              <a:chExt cx="3809880" cy="685800"/>
            </a:xfrm>
          </p:grpSpPr>
          <p:sp>
            <p:nvSpPr>
              <p:cNvPr id="584" name=""/>
              <p:cNvSpPr/>
              <p:nvPr/>
            </p:nvSpPr>
            <p:spPr>
              <a:xfrm>
                <a:off x="2666880" y="1371600"/>
                <a:ext cx="3809880" cy="68580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47760" y="1524240"/>
                <a:ext cx="31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INSTITUTIONAL MISS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28600" y="1981080"/>
              <a:ext cx="16765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0880" y="2057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ducational Objec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8600" y="3048120"/>
              <a:ext cx="1676520" cy="761760"/>
            </a:xfrm>
            <a:prstGeom prst="flowChartAlternateProcess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7200" y="3124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 &amp; Evalu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7200" y="4267080"/>
              <a:ext cx="1523880" cy="685800"/>
            </a:xfrm>
            <a:prstGeom prst="octagon">
              <a:avLst>
                <a:gd name="adj" fmla="val 2928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720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itu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33720" y="5029200"/>
              <a:ext cx="2438280" cy="152388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38280" y="533412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valuation:  Interpretation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81480" y="5029200"/>
              <a:ext cx="2743200" cy="16002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62720" y="52578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ment:  Collection &amp; Analysis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77120" y="380988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53080" y="3886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Learning Practices/Strateg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53080" y="2590920"/>
              <a:ext cx="259092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0572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asurable Performance Cri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2590920"/>
              <a:ext cx="2895480" cy="99036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29000" y="2819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Outco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95480" y="4114800"/>
              <a:ext cx="30481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00400" y="419112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eedback for Continuous 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905120" y="1676520"/>
              <a:ext cx="76176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572000" y="1981080"/>
              <a:ext cx="0" cy="6098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352680" y="4800240"/>
              <a:ext cx="6858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5029200" y="4800240"/>
              <a:ext cx="914400" cy="304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43600" y="4191120"/>
              <a:ext cx="609480" cy="3045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43600" y="3352320"/>
              <a:ext cx="685800" cy="838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495680" y="350496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981080" y="4572000"/>
              <a:ext cx="990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66680" y="251424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3809880"/>
              <a:ext cx="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905120" y="3124080"/>
              <a:ext cx="1143000" cy="152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57800" y="228600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509800">
              <a:off x="8026560" y="3231720"/>
              <a:ext cx="1085760" cy="4968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572000">
              <a:off x="7681680" y="5074920"/>
              <a:ext cx="1676160" cy="4572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3885480" y="624852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5120" y="2362320"/>
              <a:ext cx="1447560" cy="380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828800" y="3049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ESSMENT OF CQ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Educational Objectiv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 graduates wh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re competent with strong understanding of fundamental engineering knowled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ave professional attitudes and ethics necessary in fulfilling his/her responsibilities towards the Creator, client and the societ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will uphold the Malay Language as a language of knowledge in the engineering field and at the same time has the ability to communicate in English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adapt him/herself to the international/global work environmen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lead an organisation based on experience and knowledge of important current issues in engineering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conduct research in his/her own organisa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6553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76212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aduate will demonstrate the following by the time of grad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117936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nd conduct experiments, as well as to analyse and interpret data in relation to research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 system, component, or process to meet desired needs within realistic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identify, formulate and solve engineering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use the techniques, skills, and engineering tools necessary for engineering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communicate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recognise the need to undertake life-long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ttai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nowledge of contemporary issu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6629400"/>
            <a:ext cx="2438280" cy="2286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2280" y="990720"/>
            <a:ext cx="89154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 ability to design and conduct experiments, as well as to analyse and interpret data in relation to research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 experiment to (insert one or more goals or functions) and report the results (insert specifications regarding the required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(or simulate) an experiment to (insert specifications about the goals of the experiment) and report the results (insert specifications regarding the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280" y="106668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job-related scenario that requires a decision with ethical implications, 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ossible courses of action and discuss the pros and con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on the best course of action and justify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1066680"/>
            <a:ext cx="89154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stages of team development and give examples of team behaviours that are characteristic of each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ise effective strategies for dealing with a variety of interpersonal and communication problems that commonly arise in teamwork, choose the best of several given strategies for a specified problem, and justify th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1143000"/>
            <a:ext cx="7924680" cy="4038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1371600"/>
            <a:ext cx="74678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der R. M. and Brent R., 2003, Designing and Teachning Courses to Satisfy the ABET Engineering Criteria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. Eng. Edu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t’s presentation in various workshops and semin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April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 txBox="1"/>
          <p:nvPr/>
        </p:nvSpPr>
        <p:spPr>
          <a:xfrm>
            <a:off x="1523880" y="205740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5120" y="2362320"/>
            <a:ext cx="7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4880" y="487692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7294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28720" y="56340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71760" y="302904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91480" y="307656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2662200"/>
            <a:ext cx="2057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Times New Roman"/>
              </a:rPr>
              <a:t>Stakeho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1600" y="197640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176560"/>
            <a:ext cx="838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79132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5729400"/>
            <a:ext cx="1752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05720" y="685800"/>
            <a:ext cx="9903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8:43Z</dcterms:created>
  <dc:creator>faizal</dc:creator>
  <dc:description/>
  <dc:language>en-US</dc:language>
  <cp:lastModifiedBy>UKM_FKJ</cp:lastModifiedBy>
  <dcterms:modified xsi:type="dcterms:W3CDTF">2005-04-14T18:49:43Z</dcterms:modified>
  <cp:revision>954</cp:revision>
  <dc:subject/>
  <dc:title>The Study on Strength Tests for High Strength Concrete Used for Cable Stayed Bridges in Malaysia </dc:title>
</cp:coreProperties>
</file>